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8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91AE1E4-A311-4FCA-ADDE-20DFF3143A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82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73E7106-F171-4BFD-8F59-F016DC005F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4F61-3923-42EB-AF18-65F7D722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5770-805F-412A-91B1-9E3CE9C8A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4B5F-B42E-4E10-A979-D798063E6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FE97-F146-4E72-8321-64B07DA7B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2113-08E3-4E89-A269-54AB47A03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2753-27CE-405B-8864-462A10FF0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D880-98D1-4DBF-806A-4B462DD48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1AB8-A604-42F7-BF55-911ABEED3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A13C-691E-47EF-987D-F9639AAC9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115A-C4BF-4417-9B00-943582553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996F-4955-47C8-BE4C-FEF5A3682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E89B-AFF1-467C-8410-C3F935FA3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69E3-57D3-4CB0-8191-27C53F09C559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 в условиях борьбы с распространением новой коронавирусной 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Arial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4.04.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  <a:ea typeface="MS PGothic"/>
              </a:rPr>
              <a:t>Управление Федеральной антимонопольной службы 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8320" y="333360"/>
            <a:ext cx="10972800" cy="18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истанционное проведение контрольных мероприятий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стовское УФАС России обеспечивает реализацию прав на участие в рассмотрении жалоб, в проведении внеплановых проверок, рассмотрении обращений о включении сведений в отношении участников закупок, поставщиков (подрядчиков, исполнителей) в реестр недобросовестных поставщиков посредством интернет-видеоконференц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астникам контрольных мероприятий направляются ссылки и инструкции по настройке компьютеров и мобильных устройств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F3B5-BC08-4773-81BD-C08D8E4B839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11970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Актуальные проблемы при осуществлении закупок в рамках национальных проектов</a:t>
            </a:r>
            <a:endParaRPr b="0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63160" y="1197000"/>
            <a:ext cx="11665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2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 проведении закупок строительных работ Заказчикам следует обратить внимание на следующее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ормирование графика оплаты выполненных по контракту работ, графика выполнения строительно-монтажных работ (ст.110.2 Закона о контрактной системе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полнение требований, установленных Постановлением Правительства РФ от 04.02.2015 N 9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полнение требований ч.1 ст.33 Закона о контрактной систем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менение действующей редакции Постановления Правительства РФ от 30.08.2017 N 1042 об утверждении Правил определения размера штрафа, пен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3508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андемия коронавирусной инфекции является обстоятельством непреодолимой силы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азчики вправе осуществлять на основании п.9 ч.1 ст.93 Закона о контрактной системе закупку любых товаров у единственного поставщика (подрядчика, исполнителя) при совокупности следующих услов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упка осуществляется в целях предупреждения (при введении режима повышенной готовности функционирования органов управления) и (или) ликвидации чрезвычайной ситуац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чинно-следственной связи между объектом закупки и его использованием для удовлетворения потребностей Заказчика, возникших в следствие возникновения обстоятельств непреодолимой силы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10972800" cy="1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99"/>
                </a:solidFill>
                <a:latin typeface="Arial"/>
              </a:rPr>
              <a:t>Освобождение поставщиков (подрядчиков, исполнителей) от уплаты неустойки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торона освобождается от уплаты неустойки (штрафа, пени) если докажет, что неисполнение обязательства произошло в следствие непреодолимой силы (ч.9 ст.34 Закона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ставщики вправе ссылаться на обстоятельства, связанные с распространением новой коронавирусной инфекции, как на основание, освобождающее от уплаты неустойк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 таким обстоятельства также относятся меры, принятые в Российской Федерации и в иностранных государствах в целях предотвращения распространения коронавирусной инфекц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3106-68FF-4BF3-A2FF-33578D99C70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10972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3399"/>
                </a:solidFill>
                <a:latin typeface="Arial"/>
              </a:rPr>
              <a:t>Особенности осуществления закупок в период принятия мер в связи с коронавирусом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оки, предусмотренные Законом о контрактной системе, исчисляемые в рабочих днях, подлежат исчислению в календарных днях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 этом суббота и воскресенье не учитываются при исчислении данных срок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ли последний день срока, приходится на нерабочий день, указанный в выше, то днем окончания срока считается такой нерабочий день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 исключением случая, если последний день срока приходится на субботу или воскресенье, в этом случае днем окончания срока считается следующий за ними понедельник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670-2891-4463-9FA2-0EF5F204F3F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109728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ормирование протоколов членами комиссий по осуществлению закупок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Члены комиссии по осуществлению закупок вправе осуществлять рассмотрение заявок на участие в закупке не присутствуя лично на заседании такой комиссии в случае использования при таком рассмотрении средств дистанционного взаимодействия, в том числе аудиосвязи или видеосвязи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Протоколы определения поставщика (подрядчика, исполнителя) допускается составлять в электронной форме и подписывать их одной квалифицированной электронной подписью лица, имеющего право действовать от имени заказчика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9EB-E947-4B75-8D25-4FD8E787312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«Профессиональные» заявител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стается актуальной проблема подачи жалоб на действия Заказчиком заявителями, которые не принимают участия в закупочных процедурах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стовским УФАС России принимаются меры, предусмотренные законом, для решения данной проблемы, в том числе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аправление соответствующих сведений в правоохранительные орган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влечение к административной ответственности лиц, указывающих в жалобах заведомо недостоверную информацию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FCC8-4F28-4081-BAAF-19AE4E80607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Моргунов Владимир Витальевич</cp:lastModifiedBy>
  <cp:lastPrinted>2020-04-24T07:32:43Z</cp:lastPrinted>
  <dcterms:modified xsi:type="dcterms:W3CDTF">2020-04-24T07:33:31Z</dcterms:modified>
  <cp:revision>1184</cp:revision>
  <dc:subject/>
  <dc:title>Слайд 1</dc:title>
</cp:coreProperties>
</file>