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675A-FE97-4EC8-B888-6DBB9340E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078C-CBC1-4092-B48E-5867CE5A6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A27D-91E4-4A3C-A949-A7B665164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D018-48F4-4825-A501-CAF1D75B1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6807-01CB-4A3E-8F0E-5054FD718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FA62-66A7-43BD-865D-7E9FDC388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58EA-7B1F-480D-99E9-D1BEFDA17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4158-4408-42B9-B35A-E3F45747A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DF32-BB53-4D0B-A0A0-F3483C09E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EE7D-4AB9-4943-BC7E-91295AFBE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7F26-3F9F-4D2F-AE93-FF4D2603C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4162-4680-4E48-8EC2-DAFB2A433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5BD-F6E5-47ED-9552-2AEAD559C92C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Arial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24.07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MS PGothic"/>
              </a:rPr>
              <a:t>Управление Федеральной антимонопольной службы 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23880" y="1052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ановление требования о предоставлении в составе первой части заявки наименования страны происхождения и конкретных показателей товара,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е являющегося поставляемым при выполнение закупаемых работ, оказании закупаемых услуг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ехническом задании можно описать товар, используемый при выполнении закупаемых работ, но нельзя требовать в заявках показатели данного товара. Для формирования заявки в данном случае достаточно только согласия участни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исьмо ФАС России от 25.06.2020 г. № 53616/20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Ростовского УФАС России № 061/06/64-1558/2020 от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07.2020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472-0AC5-491B-8DEC-05D0F0A46C6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48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становление показателей, получение результатов которых проводится посредством испытаний, что прямо предусмотрено техническими регламентами, принятыми в соответствии с законодательством Российской Федерации о техническом регулирован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шение Верховного Суда РФ от 09.02.2017 по делу № АКПИ16-1287 - Закон не содержит норм, которые обязывали бы участника закупки иметь в наличии товар в момент подачи заявки, а также норм, обязывающих участников закупки подробно описать в заявке химический состав и (или) компоненты товара, и (или) показатели технологии производства, испытания товара, и (или) показатели, значения которых становятся известными при испытании определенной партии товара после его производ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становлении Арбитражного суда Северо-Кавказского округа от 28.11.2019 N Ф08-10657/2019, Постановлении Арбитражного суда Московского округа от 05.06.2018 N Ф05-7123/2018 по делу N А40-155099/2017, Письме ФАС России от 01.07.2016 N ИА/44536/16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шение Ростовского УФАС России № 061/06/64-1558/2020 от 17.07.2020 г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A4A-58A0-49BB-8605-BD2080CB901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змещение описания объекта закупки в формате, не позволяющем осуществлять копирование и редактирование размещенной информации, необходимой для заполнения заявки участника закупк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гласно подпункту "л" п.14 Правил функционирования единой информационной системы в сфере закупок, утвержденных Постановлением Правительства Российской Федерации от 23.12.2015 N 1414 "О порядке функционирования единой информационной системы в сфере закупок" технологические (технические и программные) средства официального сайта ЕИС должны обеспечивать возможность поиска пользователями официального сайта ЕИС текстовой информации и документов, размещенных на официальном сайте ЕИС, по их реквизитам, наименованию, по фрагментам текста, за исключением возможности поиска текстовой информации в документах, сформированных в виде электронного образа документа, а также возможность получения запрашиваемых информации и документов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шение ФАС России от 05.06.2018 по делу N 2-57-6969/77-18, Постановление Арбитражного суда Северо-Кавказского округа от 12.03.2018 по делу NА53-8933/2017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шение Ростовского УФАС России №061/06/64-1558/2020 от 17.07.2020 г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A378-7C68-485F-A971-202E8FDC571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5080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 прежнему регулярно выявляются нарушения Закона при формировании Заказчиками Инструкций по заполнению заяво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инструкции включаются многочисленные синонимичные конструкции, знаки, буквенные обозначения, не имеющие смысловой разницы, но увеличивающие сложность восприятия текста Технического задан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анное нарушение особенно актуально при проведении закупок в рамках национальных проектов, поскольку приводит к искусственному затягиванию сроков проведения торгов, уменьшению количества потенциальных участников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ешения Ростовского УФАС России № 061/06/64-1558/2020 от 17.07.2020 г., №061/06/64-1568/2020 от 20.07.2020 г., №061/06/64-1569/2020 от 20.07.2020 г., №061/06/64-1570/2020 от 20.07.2020 г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18C9-7454-4D36-8EF9-BE3AECB0091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2720" y="3333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становление Правительства РФ № 616, Постановление Правительства РФ № 617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2720" y="1197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е могут быть предметом одного контракта (одного лота) промышленные товары, включенные в перечень и не включенные в него (за исключением закупок промышленных товаров по государственному оборонному заказу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П №616 - выписка из реестра российской промышленной продукции или реестра евразийской промышленной продукции с указанием номеров реестровых записей соответствующих реестров и (или) информацию о совокупном количестве баллов за выполнение технологических операций (условий) на территории Российской Федерации, если такое предусмотрено постановлением Правительства Российской Федерации от 17 июля 2015 г. N 719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П №617 - информация о нахождении отдельного вида промышленных товаров в реестре российской промышленной продукции с указанием номера реестровой записи и совокупном количестве баллов за выполнение технологических операций (условий) на территории Российской Федерации, если это предусмотрено постановлением Правительства Российской Федерации от 17 июля 2015 г. N 719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исьмо Министерства промышленности и торговли РФ от 08.07.2020 г. № 47475/12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6B51-7331-43ED-9AA0-8C378FCAF93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3960"/>
            <a:ext cx="10972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зменения и дополнения, вступившие в силу с 01.07.2020 г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7" name="Объект 4" descr=""/>
          <p:cNvPicPr/>
          <p:nvPr/>
        </p:nvPicPr>
        <p:blipFill>
          <a:blip r:embed="rId1"/>
          <a:stretch/>
        </p:blipFill>
        <p:spPr>
          <a:xfrm>
            <a:off x="609480" y="1617840"/>
            <a:ext cx="10972800" cy="449100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1C92-78D9-49A5-A632-539DB2AD3EF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1127160" y="1268280"/>
            <a:ext cx="10318680" cy="485784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C1BC-CB40-4969-A212-F1AB7E74F2F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09480" y="1628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лючение контракта с единственным поставщиком (подрядчиком, исполнителем)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случае признания определения поставщика (подрядчика, исполнителя) несостоявшимся в соответствии с частями 1 и 7 статьи 55, частями 1, 2 и 5 статьи 55.1, частями 1 - 3.1 статьи 71, частями 1 и 3 статьи 79, пунктом 1 части 14 статьи 82.1, частями 18 и 19 статьи 83, частями 26 и 27 статьи 83.1 Закона, контракт заключается в соответствии с требованиями ч.5 ст.93 Закона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остановление Правительства РФ от 30.06.2020 N 961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снованием для проведения внеплановой проверки является, в том числе, получение обращения о согласовании заключения контракта с единственным поставщиком (подрядчиком, исполнителем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AB62-E9A0-44BF-B7CB-71C12AE10ED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 1 сентября 2020 г. в перечне товаров, работ, услуг, в случае осуществления закупок которых заказчик обязан проводить аукцион в электронной форме (электронный аукцион), утвержденном распоряжением Правительства Российской Федерации от 21 марта 2016 г. N 471-р исключены позиции, определенные кодам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41.2 &lt;4&gt; Здания и работы по возведению здан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42 &lt;4&gt; Сооружения и строительные работы в области гражданского строительства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43 &lt;4&gt;Работы строительные специализированные (кроме кода 43.13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становление Правительства РФ от 25.06.2020 N 921 "О внесении изменений в некоторые акты Правительства Российской Федерации по вопросам осуществления закупок в сфере строительства и признании утратившим силу распоряжения Правительства Российской Федерации от 13 мая 2016 г. N 890-р"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DD4-3B13-45B6-AE2F-1C7D5DD73E3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становление Правительства РФ от 04.02.2015 г. № 99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39360"/>
            <a:ext cx="10972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оимостной порог закупок работ согласно п.п.2-2(7) - если НМЦ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вышает 10 млн руб. – для федеральных нужд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вышает 5 млн руб. – для региональных и муниципальных нужд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иод, за который учитывается строительный опыт, - 5 лет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зменился перечень документов, которые могут быть представлены для подтверждения опыта участника закуп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полнительные требования к участникам закупок по подготовке проектной документации и (или) выполнению инженерных изысканий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505D-5CB3-4846-9826-F93C6B167C5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4244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становление Правительства от  28.11.2013 г. № 1085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5699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 по строительству, реконструкции, капитальному ремонту, сносу объекта капитального строительства (в том числе линейного объекта), проведению работ по сохранению объектов культурного наследия (памятников истории и культуры) народов Российской Федерации, а также для контракта, предусмотренного частями 16 (если контракт жизненного цикла предусматривает проектирование, строительство, реконструкцию, капитальный ремонт объекта капитального строительства), 16.1 статьи 34 и частью 56 статьи 112 Закона, допускается установление в документации о закупке в качестве нестоимостных критериев оценки исключительно критерия оценки «квалификация участников закупки»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оценки устанавливаются один или несколько показателей, касающихся исполненных контрактов (договоров) на строительные работы: общая стоимость; общее количество; наибольшая цена одного из контрактов (договоров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ен перечень контрактов (договоров), устанавливаемых и учитываемых для оценки заявок (предложений) по вышеуказанным показателям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245A-B355-4913-95C1-A7FD9595C45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надлежащее применение информации об условиях, о запретах и об ограничениях допуска товаров, происходящих из иностранного государства или группы иностранных государств, работ, услуг, соответственно выполняемых, оказываемых иностранными лицами, в случае, если данные условия, запреты и ограничения установлены заказчиком в соответствии со статьей 14 настоящего Федерального закон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Ростовского УФАС России № 061/06/67-1404/2020 от            23.06.2020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0DF0-F756-44F8-BE00-C9F1CB4ECC9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3960"/>
            <a:ext cx="10972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ктуальные проблемы при осуществлении закупок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Зал заседаний №1</cp:lastModifiedBy>
  <cp:lastPrinted>2020-07-24T05:57:50Z</cp:lastPrinted>
  <dcterms:modified xsi:type="dcterms:W3CDTF">2020-07-24T09:07:05Z</dcterms:modified>
  <cp:revision>1228</cp:revision>
  <dc:subject/>
  <dc:title>Слайд 1</dc:title>
</cp:coreProperties>
</file>