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2D0A7-55F7-457C-9C01-54EFF2F74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51E3-64E5-4BBA-9565-58ECD3B8C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29EE-6ADA-4D1D-A6D9-0A3569CF1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B86F-B27F-444E-9228-EC24DE5CC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FB3E5-933E-473E-B384-5D0622BE3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A50FD-EBC8-40E2-A845-D4CFE2196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2BBB-99EA-4A4C-9508-B99C7C1EB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E8275-983E-4303-AD99-DC513AAC1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400D5-CAF4-46D6-87F5-3D986A49C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185F-C791-4CA7-9014-19FCCAE41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8C63-28AD-46F9-8FF2-9AE17C5F8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BA17-C26B-44F5-BBB5-72D9D841F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A3D2-250D-4FA6-A1CF-B634D8A7329F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  <a:ea typeface="Arial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25.06.2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  <a:ea typeface="MS PGothic"/>
              </a:rPr>
              <a:t>Управление Федеральной антимонопольной службы 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зменения и дополнения, вступающие в силу с 01.07.2020 г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еспечение гарантийных обязательст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едусмотрено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рав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заказчика установить в извещении об осуществлении закупки, документации  о закупке, проекте контракта, приглашении принять участие в определении поставщика (подрядчика,  исполнителя)  закрытым  способом требование  обеспечения  гарантийных  обязательств 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 случае установления требований к таким  обязательствам  в соответствии с частью 4 статьи 33 настоящего Федерального закон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.1 ч.13 ст.34, ч.ч. 2.2, 6 – 6.3, 7.3 ст.96 Закон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55BF-E521-4F86-A98E-251E7AA9D1E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95160" y="981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еспечение исполнения контракта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размер такого обеспечения устанавливается в соответствии с настоящим Федеральным законом в извещении об осуществлении закупки, документации о закупке, проекте контракта, приглашении принять участие в определении поставщика (подрядчика, исполнителя) закрытым способом 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 размере от одной второй процента до тридцати процентов начальной (максимальной) цены контракт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если в соответствии с законодательством Российской Федерации расчеты по контракту подлежат казначейскому сопровождению, заказчик вправе не устанавливать требование обеспечения исполнения контракт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если контракт заключается в соответствии с п.1 ч.1 ст.30 Закона и заказчиком установлено требование обеспечения исполнения контракта, размер такого обеспечения устанавливается от цены контракт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53B0-1118-46A4-95BB-D6FAB0FE73B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23880" y="1052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ключение контракта с единственным поставщиком (подрядчиком, исполнителем)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В случае признания определения поставщика (подрядчика, исполнителя) несостоявшимся в соответствии с частями 1 и 7 статьи 55, частями 1, 2 и 5 статьи 55.1, частями 1 - 3.1 статьи 71, частями 1 и 3 статьи 79, пунктом 1 части 14 статьи 82.1, частями 18 и 19 статьи 83, частями 26 и 27 статьи 83.1 Закона, контракт заключается в соответствии с требованиями ч.5 ст.93 Закона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Правительством Российской Федерации устанавливаются правила согласования контрольным органом в сфере закупок заключения контракта с единственным поставщиком (подрядчиком, исполнителем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Основанием для проведения внеплановой проверки является, в том числе, получение обращения о согласовании заключения контракта с единственным поставщиком (подрядчиком, исполнителем.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9790-AF47-4E73-88D2-DA11C4521BF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4244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одолжение дистанционного проведения контрольных мероприятий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Участникам контрактной системы при рассмотрении жалоб (обращений) на действия субъектов контроля, проведении внеплановых проверок, обращений о включении сведений в реестр недобросовестных поставщиков предложено использование видеоконференцсвязи в приоритетном порядке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чное участие возможно при условии подачи соответствующего заявления не позднее рабочего дня, предшествующего дню рассмотрения жалобы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исьмо ФАС России от 29.05.2020 № МЕ/45732/20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0235-6011-4B53-AA3E-D4AAD2EDE77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4042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именение Постановления Правительства РФ от 04.02.2015 г. № 99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79600" y="1844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редоставление технического плана объекта капитального строительства, являющегося приложением к разрешению на ввод объекта капитального строительства в эксплуатацию, в составе заявки не требуется, в связи с чем его отсутствие не может являться основанием для признания заявки несоответствующей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исьмо ФАС России от 22.05.2020 г. № ИА/43260/20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2FA9-2240-48B1-970F-B5A221DFD3F8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30.04.2020 N 61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ачало действия документа - 01.05.2020 (за исключением отдельных положений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ник закупки представляет заказчику в составе заявки на участие в закупке выписку из реестра российской промышленной продукции или реестра евразийской промышленной продукции с указанием номеров реестровых записей соответствующих реестров и (или) информацию о совокупном количестве баллов за выполнение технологических операций (условий) на территории Российской Федерации, если такое предусмотрено постановлением Правительства Российской Федерации от 17 июля 2015 г. N 719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могут быть предметом одного контракта (одного лота) промышленные товары, включенные в перечень и не включенные в него (за исключением закупок промышленных товаров по государственному оборонному заказу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AAD7-FE64-4CBD-BCA2-08F04F2CF14E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30.04.2020 N 617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413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частник закупки в составе заявки представляет информации о нахождении отдельного вида промышленных товаров в реестре российской промышленной продукции с указанием номера реестровой записи и совокупном количестве баллов за выполнение технологических операций (условий) на территории Российской Федерации, если это предусмотрено постановлением Правительства Российской Федерации от 17 июля 2015 г. N 719 "О подтверждении производства промышленной продукции на территории Российской Федерации"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становление не применяется в отношении отдельных видов промышленных товаров, работ, услуг, по которым установлены отдельные запреты в соответствии со статьей 14 Федерального закона "О контрактной системе в сфере закупок товаров, работ, услуг для обеспечения государственных и муниципальных нужд"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B15-8831-4AB2-924B-8206A7162BB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надлежащее применение информации об условиях, о запретах и об ограничениях допуска товаров, происходящих из иностранного государства или группы иностранных государств, работ, услуг, соответственно выполняемых, оказываемых иностранными лицами, в случае, если данные условия, запреты и ограничения установлены заказчиком в соответствии со статьей 14 настоящего Федерального закон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я Ростовского УФАС России №№ 061/06/64-1188/2020, 061/06/64-1203/2020 от 25.05.2020 г., № 061/06/67-1404/2020 от 23.06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D624-6964-46F9-AFD9-95D47E2A333D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53960"/>
            <a:ext cx="10972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ктуальные проблемы при осуществлении закупок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23880" y="1052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ановление требования о предоставлении в составе первой части заявки наименования страны происхождения и конкретных показателей товара, не являющегося поставляемым при выполнение закупаемых работ, оказании закупаемых услу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Техническом задании можно описать товар, используемый при выполнении закупаемых работ, но нельзя требовать в заявках показатели данного товара. Для формирования заявки в данном случае достаточно только согласия участника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о ФАС России от 01.07.2019 г. № ИА/44536/16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я Ростовского УФАС России № 061/06/64-1301/2020 от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5.06.2020 г., № 061/06/64-1344/2020 от 17.06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98F6-0D9A-4AA5-A795-77F5847714F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238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каз Минздрава России от 26.10.2017 N 870н «Об утверждении Типового контракта на поставку лекарственных препаратов для медицинского применения и информационной карты Типового контракта на поставку лекарственных препаратов для медицинского примен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5.3. При поставке Товара Поставщик представляет следующие документы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д) копию документа, подтверждающего соответствие Товара, выданного уполномоченными органами (организациями)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Указывается в соответствии с Постановлением Правительства Российской Федерации от 01.12.2009 N 982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Решения Ростовского УФАС России №№ 061/06/64-1350/2020, 061/06/64-1351/2020, 061/06/64-1352/2020, 061/06/64-1353/2020, 061/06/64-1354/2020 от 19.06.2020 г., №№ 061/06/64-1371/2020, 061/06/64-1373/2020 от 22.06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77DD-5FF7-4D5E-AB34-0C9ADFE4AF0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5080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прежнему регулярно выявляются нарушения Закона при формировании Заказчиками Инструкций по заполнению заявок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инструкции включаются многочисленные синонимичные конструкции, знаки, буквенные обозначения, не имеющие смысловой разницы, но увеличивающие сложность восприятия текста Технического задания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ое нарушение особенно актуально при проведении закупок в рамках национальных проектов, поскольку приводит к искусственному затягиванию сроков проведения торгов, уменьшению количества потенциальных участников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я Ростовского УФАС России №№061/06/64-1288/2020, 061/06/64-1303/2020 от 09.06.2020 г., №061/06/64-1301/2020 от 15.06.2020 г., №061/06/64-1335/2020 от 18.06.2020 г., №061/06/67-1404/2020 от 23.06.2020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0A26-F729-44F9-BEC2-246259EB462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0-05-26T05:58:30Z</cp:lastPrinted>
  <dcterms:modified xsi:type="dcterms:W3CDTF">2020-06-25T07:36:00Z</dcterms:modified>
  <cp:revision>1213</cp:revision>
  <dc:subject/>
  <dc:title>Слайд 1</dc:title>
</cp:coreProperties>
</file>