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F545-C37E-48C8-96EE-786FADA90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59163-F8E1-416D-A939-B9E1037AE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648C-407F-4A39-A669-B90792DBD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052B-2DCA-445C-971D-C22160D2E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E1D1-0864-4E3A-9541-4CEF90B13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453A-BA56-4C7A-9605-2C0DFF410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73BB-10C2-4B3D-841B-DEB13735A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F1BE-44A9-4B9D-AD0F-2FAA52FBB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D564-C405-4CA9-B31E-8767C7E92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87BB-370D-4BC5-8C4E-0C8287E92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3399-B036-4806-9FF5-527E16686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E1EF-C53A-4D30-BEDC-0336501F3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35B7-3215-4962-B552-072BC5B32BE1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Управления Федеральной антимонопольной службы по Ростовской области в сфере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Управление Федеральной антимонопольно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120" y="-97200"/>
            <a:ext cx="1207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первой части заявки при повторной процедуре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6E50-B599-45C0-8051-BB365929C45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71520" y="1125360"/>
            <a:ext cx="1144908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ФАС России от 01.10.2020 N ИА/85170/20 "По вопросам установления требований к составу заявки при проведении повторной закупки в форме запроса предложений в случае признания конкурса или аукциона не состоявшим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 проведении запроса предложений (повторной закупки) на выполнение работ по строительству, реконструкции, капитальному ремонту, сносу объектов капитального строительства в случае признания несостоявшимся открытого конкурса в электронной форме или аукциона заказчик обязан установить требование о предоставлении в составе заявки на участие в запросе предложений исключительно согласие участника закупки на выполнение указанны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 России обращает внимание, что установление иных требований к составу заявки в отношении объекта закупки, в случае проведения повторной процедуры в форме запроса предложений по результатам несостоявшихся конкурса или аукциона, является нарушением положений Закона о контрактной систе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120" y="-97200"/>
            <a:ext cx="1207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сть рассмотрения всех заявок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226D-4D3B-4F4F-B171-9D3D2F4FEA9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71520" y="1125360"/>
            <a:ext cx="1144908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ФАС России от 29.09.2020 N ИА/84079/20 "По вопросам направления (рассмотрения) заявок на участие в аукционах в случае установления заказчиками ограничений доступа иностранной 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месте с тем, в случае, если в аукционе принимали участие более 10 участников аукциона, то в соответствии с указанными нормами Закона о контрактной системе оператор электронной площадки направляет только десять заявок и аукционная комиссия рассматривает заявки участников до принятия решения о соответствии только пяти таких заявок требованиям документации об аукционе. Следовательно, такой порядок направления (рассмотрения) заявок делает невозможным применение ограничений на допуск иностранной продукции, предусмотренных статьей 14 Закона о контрактной системе, например, механизма "третий лишний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я изложенное, ФАС России обращает внимание, что в случае, если при проведении закупок заказчиком установлены указанные ограничения, оператор электронной площадки должен направить заказчику заявки всех участников закупки, которые принимали участие в аукционе, и аукционная комиссия должна рассмотреть заявки всех участников закупки, которые принимали участие в аукцион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120" y="-97200"/>
            <a:ext cx="1207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типового контракта на поставку медицинских изделий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9BB8-3AF6-4965-96FF-9CB26E618AE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71520" y="1341360"/>
            <a:ext cx="1144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Минздрава России от 19.08.2020 N 855н внесены изменения в типовой контракт на поставку медицинских изделий, которые вступают в силу 27 октября 2020 года, подлежат обязательному применению по истечении 30 календарных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ставщиков появится больше обязанностей,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правилам эксплуатации обору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аж производителя (его представителя) для специалистов заказчика по техобслуживанию обору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спецификации к контракту станет более подробной. Среди прочего в ней предстоит указывать наименование товара по регистрационному удостовернию, дату и номер регистрации. Потребуется также отразить код позиции по КТРУ. Эту же информацию предусмотрели в форме акта приема-передачи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120" y="-97200"/>
            <a:ext cx="1207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остановления Правительства №99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0937-2C45-42B1-81AB-7FA9DC95EBF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407880" y="1916280"/>
            <a:ext cx="1123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Верховного Суда РФ от 22.10.2020 по делу №309-ЭС-157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суды, отказывая в удовлетворении заявленного требования, признали правомерной позицию управления о том, что представленные ООО «Регион» документы не свидетельствовали о наличии у данного участника опыта по строительству линейного объекта, отметив, что лицо, выполнявшее в качестве субподрядчика отдельные этапы или виды строительных работ, не может быть признано имеющим опыт строительства самого линейного объекта в целом, в частности, опыт по сдаче и вводу в эксплуатацию объекта, а также исполнению гарантийных обязательст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2181-AE26-4DD0-ABBD-6B85D363A00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407880" y="1916280"/>
            <a:ext cx="1123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уществлении закупок радиоэлектронной продукции, включенной в перечень, заказчик отклоняет все заявки, содержащие предложения о поставке радиоэлектронной продукции, включенной в перечень, происходящей из иностранных государств, при условии, что на участие в определении поставщика подано не менее 2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довлетворяющих требованиям извещения об осуществлении закупки и (или) документации о закупке заяв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одновремен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 предложения о поставке радиоэлектронной продукции, включенной в реес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держат предложений о поставке одного и того же вида радиоэлектронной продукции одного производителя либо производителей, входящих в одну группу лиц, соответствующего признакам, предусмотренным статьей 9 Федерального закона "О защите конкуренции", при сопоставлении этих зая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120" y="-97200"/>
            <a:ext cx="1207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остановления Правительства №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8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7956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08040" y="1941480"/>
            <a:ext cx="998388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Дедух Юрий Романович</cp:lastModifiedBy>
  <cp:lastPrinted>2020-04-24T07:32:43Z</cp:lastPrinted>
  <dcterms:modified xsi:type="dcterms:W3CDTF">2020-10-29T07:22:35Z</dcterms:modified>
  <cp:revision>1230</cp:revision>
  <dc:subject/>
  <dc:title>Слайд 1</dc:title>
</cp:coreProperties>
</file>