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7EB4-E514-4F4D-ACE9-F129DBD6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AA2D-5369-4075-977D-E71CB18E9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8A89-A104-4225-B24F-E26C22EFE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16F5-8B78-4BFE-A93F-E319839A4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2B2B-7ADF-450F-A7DB-AE6110F0A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A376-058B-46FD-96C4-231D24FD9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7288-4937-4543-BBDF-9F980D0D6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71F5-F326-4381-B589-138AB6BA6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D138-D234-477D-9E2C-1EF527E2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7EBF-42A1-43AA-A5D2-775D342AB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6604-2AA4-4B1B-94B2-DC5A7579A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0D4B-9A01-448E-A680-9DE19BA8F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768-B76A-4E9B-BF55-0260833BB5AC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storage.consultant.ru/ondb/attachments/202011/17/o_formirovanii_doko_zakupke_Insulin_glargin_IA_98678_20_-1605178382_1_KHn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Управления Федеральной антимонопольной службы по Ростовской области в сфере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1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авоприменительной практики ФАС, типичные ошибки Заказчиков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A71-3874-4064-AA19-EE8D9E2E65C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71520" y="1125360"/>
            <a:ext cx="1144908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допускаемые Заказчик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КВЭД не соответствовал объекту зак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АС пожаловались, что заказчик неправомерно заключил контракт с победителем: вид деятельности из ЕГРЮЛ не соответствует объекту зак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Закон N 44-ФЗ не требует, чтобы данные совпадали. Заказчик представил сведения в подтверждение того, что победитель соответствует условиям зак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один лот объединили строительные работы разных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 включил в один лот работы по строительству медицинского и образовательного центров. На каждый из объектов была отдельная проектная документация с положительным заключением госэкспертизы. Строительство предполагалось на одном земельном участке, под одним кадастровым ном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Объекты и работы на них не связаны между собой. Это может ограничить конкуренцию.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конкретных показателей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ное положение о составе первой части заявки на участие в электронном аукционе, а также открытом конкурсе в электронной форме действует с начала 2020 года. Однако заказчики по-прежнему неправильно его применяют: требуют от участников конкретных показателей товаров вместо согла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Конкретные показатели товара не нужны, если он используется при выполнении работ (оказании услуг). В этом случае требуется согласие на работы (услуги).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№99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2BD-3B15-4529-A4ED-54CFE2B85F6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71520" y="1125360"/>
            <a:ext cx="1144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АС России от 19.06.2019 № МЕ/51304/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ом (договором), подтверждающим наличие необходимого опыта у участника закупки, является договор генерального подряда. Работы, выполненные участником закупки, в качестве субподрядчика, не подтверждают наличие у участника необходим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, в ходе рассмотрения жалоб участников закупок, установлено, что некоторыми участниками в качестве подтверждения наличия опыта (по постановлению Правительства №99) предоставляются государственные (муниципальные) контракты исполнение которых прекращено по соглашению сторон с уменьшением цены. Антимонопольным органом, принятие такого контракта в качестве надлежащего опыта, признано незаконным, так как фактически выполненный объем работ не соответствует объему, предусмотренному документацией о закупке. Исключение составляют случаи, когда исполнение контракта прекращается при полном выполнении объема работ и расторжении контракта из-за образовавшейся экономии денеж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судебной и административной практики по ФЗ №4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CF6-0A31-46A8-A666-74F42F51523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71520" y="1341360"/>
            <a:ext cx="1144908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 признал незаконным требование документации о том, что участником аукциона может быть только единственный собственник жилого помещения. По доверенности от собственника в аукционе может участвовать его представител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рбитражного суда Уральского округа от 03.11.2020 N Ф09-6235/20 по делу N А71-16852/20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 принял следующие решения: заказчик не обязан размещать в ЕИС положительное заключение госэкспертизы проектной документации; Замена бланка регистрационного удостоверения на медизделие не означает, что само удостоверение стало недействительным. Заказчик не вправе отклонять заявку только из-за того, что оно представлено на старом бланке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" y="115920"/>
            <a:ext cx="120711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ФАС России при осуществлении закупки препарата с МНН "Инсулин гларгин"</a:t>
            </a: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3F43-87FD-4E09-A2BC-644C66FC25F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3679920"/>
          <a:ext cx="10972800" cy="366480"/>
        </p:xfrm>
        <a:graphic>
          <a:graphicData uri="http://schemas.openxmlformats.org/drawingml/2006/table">
            <a:tbl>
              <a:tblPr/>
              <a:tblGrid>
                <a:gridCol w="5486400"/>
                <a:gridCol w="5486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исьмо ФАС России от 10.11.2020 N ИА/98678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5"/>
          <p:cNvSpPr/>
          <p:nvPr/>
        </p:nvSpPr>
        <p:spPr>
          <a:xfrm>
            <a:off x="407880" y="1534680"/>
            <a:ext cx="11449080" cy="44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писании объекта закупки среди прочего указывается дозировка лекарства с возможностью поста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ратной дозировке и двойном количе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некратных эквивалентных дозировках, но с одинаковым терапевтическим эфф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 реестре лекарственных препаратов в рамках МНН "Инсулин гларгин" зарегистрировано несколько лекарств в разной дозировке: 100 ЕД/мл и 300 ЕД/м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указала, что при описании объекта закупки нужно приводить оба значения. Терапевтический эффект будет одинаковым в требуемом заказчиком коли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время следует учитывать особенности описания лекарства для педиатрических целей. В этом случае дозировка приводится с учетом возраста детей, для которых проводится закупка. Например, при закупке лекарства для детей от 2 до 6 лет можно привести конкретную дозировку — 100 ЕД/м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ФАС России от 10.11.2020 №ИА/98678/2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057-A042-438F-9B5A-1889005DB31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79520" y="1046160"/>
            <a:ext cx="1123308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й контракт появился в ЕИС 11 ноября. Госзаказчики обязаны его применять с 11 декабря 202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й редакции предусмотрено больше обязанностей поставщиков. Так, их до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м правилам эксплуатации обору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структажом производителя (его представителя) для специалистов заказчика по техобслуживанию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поставщики должны предоставлять все сведения для использования медизделия: ключи, пароли доступа, программы, перечень расходных материалов и реагентов, которые можно применять при работе с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пецификации к контракту стала более подробной. Среди прочего в ней указываются наименование товара по регистрационному удостоверению, дата и номер регистрации. Нужно также отразить код позиции по КТРУ. Эту информацию предусмотрели и в форме акта приема-передачи тов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й госконтракт на поставку медизделий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9795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08040" y="1941480"/>
            <a:ext cx="99838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Роман Николаевич Рыбин</cp:lastModifiedBy>
  <cp:lastPrinted>2020-11-27T12:04:59Z</cp:lastPrinted>
  <dcterms:modified xsi:type="dcterms:W3CDTF">2020-11-27T12:07:15Z</dcterms:modified>
  <cp:revision>1241</cp:revision>
  <dc:subject/>
  <dc:title>Слайд 1</dc:title>
</cp:coreProperties>
</file>