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12193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16000" y="-36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79200" y="739440"/>
            <a:ext cx="657864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16000" y="9372240"/>
            <a:ext cx="291780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MS PGothic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83DCE-ED37-4B68-942B-A73F0765AA5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79200" y="739800"/>
            <a:ext cx="6578640" cy="37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16360" y="9372600"/>
            <a:ext cx="29178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7935BC-8A5A-4A1B-9609-84A7B9D584A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FACF7-C24F-46CE-A6C8-04D0860AA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FE4E-A48B-45B8-A8E9-975795DFC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72B6-4F8E-4C14-B71F-24CA02710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CB82-BD92-4EE1-8956-867807A6A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52CA0-FA3E-405A-A159-0F52C4C7C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B6715-73AA-40A0-B235-448A7E3BC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6B07E-1697-4F00-ABA1-A90708DC0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756B-8F1C-4ABC-A0FA-F63A35F18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B3F21-CA14-49F0-A165-E9ACCF7EF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9E40-2F92-40AA-9BF2-6E8410F39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BD27-B5FA-4A0B-BD32-8BFC0B2084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64692-408C-4D60-B148-3E1E4D7B36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1050-D5E9-40C7-8AEE-F87A472422F2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7.09.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№143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09480" y="90792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от 28.08.2021 № 1432 «О внесении изменений в некоторые акты Правительства Российской Федерации» вступило в силу 31.08.2021 и распространяется на закупки, извещения об осуществлении которых размещены в ЕИС с указанной даты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зменения внесены в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от 05.02.2015 №102 «Об ограничениях и условиях допуска отдельных видов медицинских изделий, происходящих из иностранных государств, для целей осуществления закупок для обеспечения государственных и муниципальных нужд»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от 10.07.2019 № 878 «О мерах стимулирования производства радиоэлектронной продукции на территории Российской Федерации при осуществлении закупок товаров, работ, услуг для обеспечения государственных и муниципальных нужд»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от 30.04.2020 № 616 «Об установлении запрета на допуск промышленных товаров, происходящих из иностранных государств, для целей осуществления закупок для государственных и муниципальных нужд, а также промышленных товаров, происходящих из иностранных государств, работ (услуг), выполняемых (оказываемых) иностранными лицами, для целей осуществления закупок для нужд обороны страны и безопасности государства»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а основании указанных изменений внесены поправки в Постановление Правительства РФ от 08.02.2017 №145 «Об утверждении Правил формирования и ведения в единой информационной системе в сфере закупок каталога товаров, работ, услуг для обеспечения государственных и муниципальных нужд и Правил использования каталога товаров, работ, услуг для обеспечения государственных и муниципальных нужд»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B300-68D2-4267-9A56-A1E40FC81A7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№ 102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09480" y="12682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ключены некоторые позиции из перечня отдельных видов медицинских изделий, происходящих из иностранных государств, в отношении которых устанавливаются ограничения допуска для целей осуществления закупок для обеспечения государственных и муниципальных нужд (перечень № 1), в том числе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6.06.11.112 Маммографы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6.60.11.113, 26.60.12.110, 26.60.12.129, 32.50.1, 32.50.21.112 Эндоскопические комплексы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6.60.12.111 Электрокардиографы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8.25.13.111, 28.25.13.115, 28.25.13.119 Медицинские морозильники, холодильники комбинированные лабораторные, холодильники фармацевтические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2.50.21.121, 32.50.21.122, 32.50.21.129 Аппараты искусственной вентиляции легких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7.40.39.10 Операционные и смотровые медицинские светильники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др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DED2-3AB9-485A-BB35-2714D8DFE90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№ 878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. При осуществлении закупок радиоэлектронной продукции, включенной в перечень, заказчик отклоняет все заявки (окончательные предложения), содержащие предложения о поставке радиоэлектронной продукции, происходящей из иностранных государств (за исключением государств - членов Евразийского экономического союза), при условии, что на участие в закупке подана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 (или более) удовлетворяющая требованиям извещения об осуществлении закупки и (или) документации о закупке заявка (окончательное предложение), содержащая предложение о поставке радиоэлектронной продукции, произведенной на территориях государств - членов Евразийского экономического союз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3(1). Для подтверждения соответствия поставляемой радиоэлектронной продукции требованиям, установленным настоящим постановлением, участник закупки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указывает (декларирует) в составе заявки на участие в закупке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омера реестровых записей из реестра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омера реестровых записей из евразийского реестра промышленных товаров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а также информацию о совокупном количестве баллов за выполнение технологических операций (условий) на территории государства - члена Евразийского экономического союза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. Подтверждением случая, установленного пунктом 4 Постановления (неустановление ограничения), является разрешение на закупку происходящего из иностранного государства промышленного товара, выданное в порядке, установленном Министерством промышленности и торговли Российской Федераци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речень радиоэлектронной продукции, происходящей из иностранных государств, в отношении которой устанавливаются ограничения для целей осуществления закупок для обеспечения государственных и муниципальных нужд изложен в новой редакции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F7E2-CA26-4856-A6A9-5E2FA59426D0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РФ № 616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11280" y="126828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еречень промышленных товаров, происходящих из иностранных государств (за исключением государств-членов ЕЭС), в отношении которых устанавливается запрет на допуск, дополнен радиоэлектронной продукцией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ункт 3 дополнен случаем неприменения запрета, указанного в пунктах 1 и 2 постановления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закупка запасных частей и расходных материалов к машинам и оборудованию, используемым заказчиком в соответствии с технической документацией на указанные машины и оборудование (в случае закупки товаров, указанных в пунктах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5(3) - 25(7)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 47 - 51 перечня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0. Для подтверждения соответствия закупки промышленных товаров требованиям, установленным настоящим постановлением, участник закупки представляет заказчику в составе заявки на участие в закупке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ыписку из реестра российской промышленной продукции или реестра евразийской промышленной продукции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либо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в случае закупки товаров, указанных в пунктах 25(1) - 25(7) перечня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едставляет декларацию о включении поставляемой продукции в единый реестр российской радиоэлектронной продукции с указанием номеров реестровых записей соответствующих реестров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, а также информации о совокупном количестве баллов за выполнение технологических операций (условий) на территории Российской Федерации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9408960" y="6597720"/>
            <a:ext cx="2845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C987-82EA-4726-9185-DE454E99EF8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8080"/>
            <a:ext cx="10972800" cy="6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менение КТРУ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09480" y="9810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от 08.02.2017 № 145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Заказчики обязаны применять информацию, включенную в позицию каталога, с указанной в ней даты начала обязательного применения. При этом заказчик обязан при осуществлении закупки использовать информацию, включенную в соответствующую позицию, в том числе указывать согласно такой позиции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) наименование товара, работы, услуги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) единицы измерения количества товара, объема выполняемой работы, оказываемой услуги (при наличии)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) описание товара, работы, услуги (при наличии такого описания в позиции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. Заказчик вправе указать в извещении об осуществлении закупки, приглашении и документации о закупке дополнительную информацию, а также дополнительные потребительские свойства, в том числе функциональные, технические, качественные, эксплуатационные характеристики товара, работы, услуги в соответствии с положениями статьи 33 Федерального закона, которые не предусмотрены в позиции каталога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6. В случае предоставления дополнительной информации, предусмотренной пунктом 5 настоящих Правил, заказчик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язан включить в описание товара, работы, услуги обоснование необходимости использования такой информации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(при наличии описания товара, работы, услуги в позиции каталога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я Ростовского УФАС России от 03.09.2021 № 061/06/67-1491/2021,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07.09.2021 № 061/06/64-1507/2021, от 10.09.2021 № 061/06/64-1526/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4F8B-776B-492F-9D39-8BEA69B44BE7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полнительные требования к участникам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 силу ч.4 ст.31 Закона в случае установления Правительством Российской Федерации в соответствии с частями 2 и 2.1 ст.31 дополнительных требований к участникам закупок заказчики при определении поставщиков (подрядчиков, исполнителей) обязаны устанавливать такие дополнительные требования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унктами 2 – 2(7) Постановления № 99 предусмотрены дополнительные требования к участникам закупок по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оительству, реконструкции объекта капитального строительства, за исключением линейного объект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оительству, реконструкции линейного объект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оительству некапитального строения, сооружения (строений, сооружений), благоустройству территории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монту, содержанию автомобильных дорог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питальному ремонту объекта капитального строительства (за исключением линейного объекта)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питальному ремонту линейного объект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носу объекта капитального строительства (в том числе линейного объекта)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дготовке проектной документации и (или) выполнению инженерных изысканий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Дополнительные требования устанавливаются, если начальная (максимальная) цена контракта (цена лота) для обеспечения федеральных нужд превышает 10 млн. рублей, для обеспечения нужд субъектов Российской Федерации, муниципальных нужд - 5 млн. рублей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Решения Ростовского УФАС России от 09.09.2021 № 061/06/64-1512/2021,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т 14.09.2021 № 061/06/64-1534/2021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9170-B86D-4EFE-A222-1EC833B41CF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пасибо за внимание 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Иванкова Софья Александровна</cp:lastModifiedBy>
  <cp:lastPrinted>2021-08-26T07:21:30Z</cp:lastPrinted>
  <dcterms:modified xsi:type="dcterms:W3CDTF">2021-09-17T10:48:47Z</dcterms:modified>
  <cp:revision>1304</cp:revision>
  <dc:subject/>
  <dc:title>Слайд 1</dc:title>
</cp:coreProperties>
</file>