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41BFC-70B5-4A7E-9335-2B5F96FCE9B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42C6C-F783-4B68-B250-D8E33A9145C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F575C-58D2-48FA-B309-BD58CA9ED8A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B459D0-BC9E-4FEE-AE2F-EDF498C9118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D2C7ED-5D32-49CF-AE41-D93F3193194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AC4643-9FEF-4C8C-B85D-40E0DE9F96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AF5965-33E6-41EE-A557-B7612D9F9DB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158A54-6B11-47F7-898E-6CFF57FEA92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D83EE3-912A-4B9D-8624-13552347FA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DDD769-92B7-42AA-B978-52BA4E22CF2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0A23EE-46CD-4EA1-A440-F4BEE047F3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8E9FC1-EFBF-4100-8322-CB1242DB632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A7EDA-5171-47FA-B682-206E824C502C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gAbzjLryufs" TargetMode="External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актика Управления Федеральной антимонопольной службы по Ростовской области в сфере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7.12.202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12192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е п.27(2), 27(3) Постановления Правительства РФ №1085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4F173-6C38-4F3C-A1BA-0E530647C1F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3"/>
          <p:cNvSpPr/>
          <p:nvPr/>
        </p:nvSpPr>
        <p:spPr>
          <a:xfrm>
            <a:off x="192240" y="1557360"/>
            <a:ext cx="11807640" cy="47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требований к минимальной стоимости контракта, подтверждающего квалификац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омерно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требований об отсутствии штрафов/пеней при исполнении контракта, подтверждающего квалификацию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омер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ие требование о подтверждении квалификации контрактами, заключенными в соответствии с Законом о контрактной систем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правомерн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установлении сроков исполнения контрактов, подтверждающих квалификацию, руководствоваться надлежит сроками, определенным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ановлением Правительства РФ №99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12192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Постановления Правительства РФ №878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9A8EF6-9CC9-4629-BDC7-00965C48EC9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3"/>
          <p:cNvSpPr/>
          <p:nvPr/>
        </p:nvSpPr>
        <p:spPr>
          <a:xfrm>
            <a:off x="263520" y="2708280"/>
            <a:ext cx="11808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для неприменения ограничений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здне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рядок подтверждения страны происхождения товара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ключе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оторые коды из перечня продукции, попадающей под ограни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12192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Постановления Правительства РФ №617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E3B82-2BED-4C94-A574-EF1C7AB2888F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Box 3"/>
          <p:cNvSpPr/>
          <p:nvPr/>
        </p:nvSpPr>
        <p:spPr>
          <a:xfrm>
            <a:off x="192240" y="2637000"/>
            <a:ext cx="118076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тановлены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ания для неприменения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ений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ключены/исключены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екоторые коды из перечня продукции, попадающей под огранич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12192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порядка предоставления преференций инвалидам и предприятиям УИС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31EF5-389C-408A-80E3-AF718B58A2EC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3"/>
          <p:cNvSpPr/>
          <p:nvPr/>
        </p:nvSpPr>
        <p:spPr>
          <a:xfrm>
            <a:off x="192240" y="2637000"/>
            <a:ext cx="1180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тупает в силу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поряжение Правительства РФ от 08.12.2021 N 3500-р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чень ТРУ при закупке которых предоставляются преференции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-360" y="44280"/>
            <a:ext cx="1219212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струкция по работе с ЕИС после 01.01.2022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Номер слайда 2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87C1F-0C41-4281-A723-4E28C38A6751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Box 3"/>
          <p:cNvSpPr/>
          <p:nvPr/>
        </p:nvSpPr>
        <p:spPr>
          <a:xfrm>
            <a:off x="192240" y="1557360"/>
            <a:ext cx="1180764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едеральным Казначейством посредством проведения вебинара подробно разобраны теоретические и практические вопросы применения новелл законодательства о контрактной системе, освещены такие вопросы как подача жалоб на действия (бездействие) субъектов контроля, согласование заключения контракта с единственным поставщиком (подрядчиком, исполнителем), а также многие други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бинар записан и доступен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ознакомления по ссылке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9999"/>
                </a:solidFill>
                <a:uFillTx/>
                <a:latin typeface="Times New Roman"/>
                <a:ea typeface="Times New Roman"/>
                <a:hlinkClick r:id="rId1"/>
              </a:rPr>
              <a:t>https://www.youtube.com/watch?v=gAbzjLryuf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09480" y="97956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!</a:t>
            </a:r>
            <a:endParaRPr b="0" lang="en-US" sz="5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608040" y="1941480"/>
            <a:ext cx="9983880" cy="41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Дедух Юрий Романович</cp:lastModifiedBy>
  <cp:lastPrinted>2020-04-24T07:32:43Z</cp:lastPrinted>
  <dcterms:modified xsi:type="dcterms:W3CDTF">2021-12-17T10:49:37Z</dcterms:modified>
  <cp:revision>1252</cp:revision>
  <dc:subject/>
  <dc:title>Слайд 1</dc:title>
</cp:coreProperties>
</file>