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72F3-1123-4BE8-8662-CB6807CDD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9A5A-750B-44B2-85C4-EE6D8E3F7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9D48-0B1B-4EF2-9D8C-1842AAFFE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36A6-930B-433F-88A8-237E34A3B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14E5-DC28-4A53-A9C1-0A5309126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8405-A150-492D-8EBA-F83398FF0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A811-2007-4662-994C-00F8967E8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5E3B-F906-4C99-B1F2-ABC037E0E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6874-FE9C-4DC1-B399-CD9513A21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9930-7ABF-46A1-A733-E617CC2DA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ECBC-BB3C-484A-BB3E-564B941A1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33F4-17EA-463F-8812-CE5641AD0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2FAD-B12C-43A9-BA12-59F3228AC36F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1.07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З от 02.07.2021 №360-ФЗ, вносит масштабные изменен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законодательство о контрактной системе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анет меньше конкурентных способов закупок. Правила их проведения изменятся. Основная часть пакета изменений начнет действовать с 1 января 2022 года, но для некоторых из них есть переходные периоды. 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ссмотрим самые заметные изменения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курентные способы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упки можно проводить такими способами, как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курс (закрытый, электронные открытый и закрытый);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укцион (электронный, закрытый, закрытый электронный);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лектронный запрос котировок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F020-F1DD-473A-A13F-80033806692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водится универсальная предквалификация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любой конкурентной закупке с НМЦК 20 млн руб. и более, заказчик потребует от участника наличие опыта исполнения контракта по Закону N 44-ФЗ или договора по Закону N 223-ФЗ за 3 года до подачи заявки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лучае наличия предъявленных при исполнении таких контрактов (договоров) требований об уплате неустоек (штрафов, пеней), требования по оплате неустоек должны быть исполнены. 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мет закупки не имеет значения. Но стоимость исполненных обязательств по таким контрактам (договорам) должна составлять не менее двадцати процентов начальной (максимальной) цены контракта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нная предквалификация действует, если к участникам закупки не применялись доптребования (Постановление Правительства РФ от 04.02.2015 N 99)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4E95-BD4A-42B4-955A-9D00FBCA1FE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ок оплаты по контрактам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185920"/>
          <a:ext cx="10972800" cy="3353040"/>
        </p:xfrm>
        <a:graphic>
          <a:graphicData uri="http://schemas.openxmlformats.org/drawingml/2006/table">
            <a:tbl>
              <a:tblPr/>
              <a:tblGrid>
                <a:gridCol w="3467160"/>
                <a:gridCol w="2600280"/>
                <a:gridCol w="2598840"/>
                <a:gridCol w="2306520"/>
              </a:tblGrid>
              <a:tr h="427320">
                <a:tc rowSpan="2"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ставщ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ок о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2021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1 января 202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 1 января 2023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460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ъект и малого предпринимательства, социально ориентированная некоммерческ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ч. 8 ст. 30 Закона № 44-ФЗ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5960"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контраг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ч. 13.1 ст. 34 Закона № 44-ФЗ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76320" bIns="76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F60-5532-43F1-A62C-167500135B0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тимизационные поправки уменьшат количество документов по закупкам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новные изменения в части подготовки документов при размещении закупок носят оптимизационный характер, предусматривают сокращение числа видов закупочных процедур, ускорение их проведения, упрощение и автоматизацию различных этапов проведения госзакупок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•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большинстве случаев извещение — основной документ закупки. В нем будет вся информация, необходимая участникам. Документация о закупке потребуется лишь для закрытых конкурентных процедур;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•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менить извещение о любой закупке можно за 1 рабочий день до окончания срока подачи заявок;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•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менить любую электронную закупку можно не позднее чем за 1 рабочий день до даты окончания приема заявок. Сейчас срок зависит от способа проведения закупки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6F5-E96F-42FD-A8D3-4C45D76ED22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80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оль изменений в обеспечении прозрачности контрактной системы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981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ущественная часть изменений посвящена борьбе с «профессиональными жалобщиками». Для участников закупок с начальной (максимальной) ценой контракта (НМЦК) более 20 млн рублей будут предъявляться требования по наличию опыта исполненного контракта на сумму не менее 20% от НМЦК. Организации, которые не прошли ее, не смогут подавать жалобы и намеренно мешать проведению закупки.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правки значительно повышают роль Единой информационной системы в сфере закупок. С 1 января 2022 года все жалобы по электронным процедурам закупок будут направляться через ЕИС.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и меры направлены на обеспечение прозрачности взаимодействия между заказчиком и поставщиком, защиту прав предпринимателей, а также повышение возможностей для контроля со стороны органов власти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58C-88ED-4E42-9EB8-56414952415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Моргунов Владимир Витальевич</cp:lastModifiedBy>
  <cp:lastPrinted>2021-07-21T09:46:48Z</cp:lastPrinted>
  <dcterms:modified xsi:type="dcterms:W3CDTF">2021-07-21T11:00:25Z</dcterms:modified>
  <cp:revision>1300</cp:revision>
  <dc:subject/>
  <dc:title>Слайд 1</dc:title>
</cp:coreProperties>
</file>