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D30B-C13D-4545-8345-59C9D8876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4C34-4443-48E9-9C5B-F7838FC0C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F209-3077-425A-B82E-7D004B42A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5A13-B7F3-4AC9-B85A-1D88661EA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D79B-0AE1-4D6B-A7EE-C4773CEB7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FD14-BD92-4DA8-9D9C-2EE8798DF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6D07-F5A9-4267-BCE8-6F779F859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2951-6028-4B1B-AAFE-F07EC6A84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DAC1-7444-47DA-AADF-0C0CC759C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5209-4766-4C1F-B608-3CB30A915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802E-7713-4AE3-AD1E-4E2031D30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277E-1DDA-4B83-ADD3-A31E601A8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AFA5-8D73-42AB-8209-8C5DA5FB1BD2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Управления Федеральной антимонопольной службы по Ростовской области в сфере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10.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3520" y="-25560"/>
            <a:ext cx="110300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остановления Правительства РФ №620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4639-7763-4681-A089-8FCB214A32D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92240" y="1557360"/>
            <a:ext cx="1180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вида медицинского изделия обознач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изначным числ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исьме ФАС России от 20.09.2021 №ПИ/79210/2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менение Постановления Правительства РФ №620 в связи с закупками товаров с т.н. «неизвестным объемом»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2 Постановления Правительства РФ №620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общего прави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3520" y="-25560"/>
            <a:ext cx="110300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остановления Правительства РФ №878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1753-8EFE-4B18-8C9D-17A54248337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92240" y="1557360"/>
            <a:ext cx="11807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менение ограничений, в связи с подготовкой обоснования невозможности их применения с 31.08.2021 законодательств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дусмотре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ое основание для неприменения ограничений – получ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я Минпромтор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лучения разреш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работ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чик на данный момен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ет законных основан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еприменения Постановления Правительства РФ №8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промторга России от 01.10.2021 №ПГ-11-97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промторга России от 29.09.2021 №83198/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3520" y="-25560"/>
            <a:ext cx="110300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остановления Правительства РФ №1078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6833-6C6C-4EB0-920D-F10FCC819DC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92240" y="1557360"/>
            <a:ext cx="1180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нформации в контрольный орган в сфере закупок осуществля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ьной ф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заказчиком порядка одностороннего отказа от исполнения контракта влеч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о включении свед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поставщике (подрядчике/исполнителе) в РНП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буждение административного дел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заказ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84600"/>
            <a:ext cx="121442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нкурс и конкурсные критер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BEB7-5B11-404B-8E3D-399B8DC096F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34800" y="1197000"/>
          <a:ext cx="11449080" cy="4664160"/>
        </p:xfrm>
        <a:graphic>
          <a:graphicData uri="http://schemas.openxmlformats.org/drawingml/2006/table">
            <a:tbl>
              <a:tblPr/>
              <a:tblGrid>
                <a:gridCol w="5724720"/>
                <a:gridCol w="57243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нные наруш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нные надлежащи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ключе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тракта, подтверждающего опыт участ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ненного контракта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 сумм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екущей закуп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ществова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частника на рын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контрактов, заключенных в соответствии с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4-ФЗ и 223-Ф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оставимый характер работ определен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носительн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положительного заключения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осударственн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экспертиз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опыта работ, выполненных на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онкретной мест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сть приложения документов,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дтверждающих опла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вокупной стоимости исполненных контрактов от суммы,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евышающей Н(М)Ц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сть предоставления информации об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ЭЦП подписа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акт, исполненный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без примене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трафных сан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контракта в качестве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енерального подрядч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5" name="TextBox 1"/>
          <p:cNvSpPr/>
          <p:nvPr/>
        </p:nvSpPr>
        <p:spPr>
          <a:xfrm>
            <a:off x="550800" y="5950080"/>
            <a:ext cx="1101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Письма ФАС России от 02.09.2021 №ПИ/74393/21, Письма ФАС России от 30.07.2021 №ПИ/63489/21 и Письма Минфина России от 30.06.2021 №24-06-06/516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97956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08040" y="1941480"/>
            <a:ext cx="998388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Дедух Юрий Романович</cp:lastModifiedBy>
  <cp:lastPrinted>2020-04-24T07:32:43Z</cp:lastPrinted>
  <dcterms:modified xsi:type="dcterms:W3CDTF">2021-10-21T08:56:24Z</dcterms:modified>
  <cp:revision>1246</cp:revision>
  <dc:subject/>
  <dc:title>Слайд 1</dc:title>
</cp:coreProperties>
</file>