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12193588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2DA46E-BD8B-455E-9DC0-6057028B26B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F7AB6B-2C46-4FAF-B7E0-F105D0AFD64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DC2227-C944-4D1B-9546-EB532AEB629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DE848A7-1393-48B9-AB44-6999D246CE6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BFAA33-89FA-4B13-96F9-A5371932F91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31964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8029800" y="160020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60948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431964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8029800" y="3964320"/>
            <a:ext cx="35330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9B49A-08F0-4112-843C-3F3B4F168D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99DB75-6A30-4D3F-8FDE-9E233B89460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A27495-F58B-4506-9238-6D5F9E4841E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09480" y="274320"/>
            <a:ext cx="109728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6BE5A6E-D765-4461-A74C-13F46FC95C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BCD6DC-3410-43C2-81E9-FBBE69DFBE0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32320" y="396432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4B88BC3-CE1B-492C-9E07-29B56BA1B94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32320" y="1600200"/>
            <a:ext cx="535464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09480" y="3964320"/>
            <a:ext cx="10972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2AD42B-E6B2-4490-933C-5ED71866DC45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jpeg"/><Relationship Id="rId3" Type="http://schemas.openxmlformats.org/officeDocument/2006/relationships/image" Target="../media/image1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  <p:pic>
        <p:nvPicPr>
          <p:cNvPr id="2" name="Picture 8" descr="пр2"/>
          <p:cNvPicPr/>
          <p:nvPr/>
        </p:nvPicPr>
        <p:blipFill>
          <a:blip r:embed="rId2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pic>
        <p:nvPicPr>
          <p:cNvPr id="3" name="Picture 9" descr="пр 1"/>
          <p:cNvPicPr/>
          <p:nvPr/>
        </p:nvPicPr>
        <p:blipFill>
          <a:blip r:embed="rId3"/>
          <a:stretch/>
        </p:blipFill>
        <p:spPr>
          <a:xfrm>
            <a:off x="0" y="0"/>
            <a:ext cx="12192120" cy="907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9396360" y="6579720"/>
            <a:ext cx="28447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F1FD8D-3748-4070-9499-05EA1419FB84}" type="slidenum">
              <a:rPr b="0" lang="ru-RU" sz="1600" spc="-1" strike="noStrike">
                <a:solidFill>
                  <a:srgbClr val="ffffff"/>
                </a:solidFill>
                <a:latin typeface="Times New Roman"/>
                <a:ea typeface="MS PGothic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7" descr="пр копия"/>
          <p:cNvPicPr/>
          <p:nvPr/>
        </p:nvPicPr>
        <p:blipFill>
          <a:blip r:embed="rId2"/>
          <a:stretch/>
        </p:blipFill>
        <p:spPr>
          <a:xfrm>
            <a:off x="0" y="0"/>
            <a:ext cx="12192120" cy="26384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8" descr="пр2"/>
          <p:cNvPicPr/>
          <p:nvPr/>
        </p:nvPicPr>
        <p:blipFill>
          <a:blip r:embed="rId3"/>
          <a:stretch/>
        </p:blipFill>
        <p:spPr>
          <a:xfrm>
            <a:off x="0" y="6624720"/>
            <a:ext cx="12192120" cy="26028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09480" y="274320"/>
            <a:ext cx="109728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609480" y="160020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33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333399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Subtitle 2"/>
          <p:cNvSpPr/>
          <p:nvPr/>
        </p:nvSpPr>
        <p:spPr>
          <a:xfrm>
            <a:off x="1697040" y="2565360"/>
            <a:ext cx="8791560" cy="302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Видеоконференция для представителей государственных и муниципальных заказчиков Ростовской области по вопросам осуществления закупок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г. Ростов-на-Дону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22.02.2023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26"/>
          <p:cNvSpPr/>
          <p:nvPr/>
        </p:nvSpPr>
        <p:spPr>
          <a:xfrm>
            <a:off x="3863880" y="836640"/>
            <a:ext cx="6624720" cy="100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Управление Федеральной антимонопольной служб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99"/>
                </a:solidFill>
                <a:latin typeface="Times New Roman"/>
                <a:ea typeface="Times New Roman"/>
              </a:rPr>
              <a:t>по Ростовской област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8280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333399"/>
                </a:solidFill>
                <a:latin typeface="Arial"/>
              </a:rPr>
              <a:t>Требования к формированию лотов</a:t>
            </a: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609480" y="1197000"/>
            <a:ext cx="1097280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Постановление Правительства РФ от 19.04.2021 N 620 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3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При осуществлении закупок медицинских изделий не могут быть предметом одного контракта (одного лота) медицинские изделия различных видов в соответствии с номенклатурной классификацией медицинских изделий по видам, утвержденной Министерством здравоохранения Российской Федерации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сключение - не распространяется на закупки медицинских изделий, объединенных в один лот (контракт) по контрактам жизненного цикла, заключаемым в случаях, а также на закупки медицинских изделий, объединенных в один лот (контракт) с расходными материалами, которые предусмотрены производителем (изготовителем) для использования данных медицинских изделий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Действие документа приостанавливалось с 25 марта 2022 года до 1 сентября 2022 года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5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CBF677-9E2B-4B15-9ECE-16088D0794D2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609480" y="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Каталог товаров, работ и услуг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695160" y="83664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Постановление Правительства от 08.02.2017 № 145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4. Заказчики обязаны применять информацию, включенную в позицию каталога, с указанной в ней </a:t>
            </a:r>
            <a:r>
              <a:rPr b="0" lang="ru-RU" sz="1800" spc="-1" strike="noStrike" u="sng">
                <a:solidFill>
                  <a:srgbClr val="333399"/>
                </a:solidFill>
                <a:uFillTx/>
                <a:latin typeface="Times New Roman"/>
                <a:ea typeface="Times New Roman"/>
              </a:rPr>
              <a:t>даты начала обязательного применения.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5. Заказчик вправе указать дополнительную информацию, а также дополнительные потребительские свойства, в соответствии с положениями статьи 33 Федерального закона, которые не предусмотрены в позиции каталога за исключением: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а) осуществления закупки радиоэлектронной продукции, включенной в  пункты 22 - 27 и 29 перечня постановления Правительства Российской Федерации от 30 апреля 2020 г. N 616, а также осуществления закупки радиоэлектронной продукции, включенной в перечень постановления Правительства Российской Федерации от 10 июля 2019 г. N 878; 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б) если иное не предусмотрено особенностями описания отдельных видов объектов закупок (Постановление Правительства РФ от 15.11.2017 N 1380)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88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BEEDE3-F817-4507-9E14-C116D51C9D2A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09480" y="49320"/>
            <a:ext cx="10972800" cy="620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 </a:t>
            </a:r>
            <a:r>
              <a:rPr b="0" lang="ru-RU" sz="28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Требования к извещению о проведении закупки</a:t>
            </a:r>
            <a:endParaRPr b="0" lang="en-US" sz="2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0" name=""/>
          <p:cNvSpPr txBox="1"/>
          <p:nvPr/>
        </p:nvSpPr>
        <p:spPr>
          <a:xfrm>
            <a:off x="630360" y="836640"/>
            <a:ext cx="1097280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Извещение об осуществлении закупки, должно содержать следующие электронные документы: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1) описание объекта закупки в соответствии со статьей 33 настоящего Федерального закон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2) обоснование начальной (максимальной) цены контракта. Заказчик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3) требования к содержанию, составу заявки на участие в закупке в соответствии с настоящим Федеральным законом и инструкция по ее заполнению. При этом не допускается установление требований, влекущих за собой ограничение количества участников закупки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4) порядок рассмотрения и оценки заявок на участие в конкурсах в соответствии с настоящим Федеральным законом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5) проект контракта;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333399"/>
                </a:solidFill>
                <a:latin typeface="Arial"/>
              </a:rPr>
              <a:t>6) перечень дополнительных требований к извещению об осуществлении закупки, участникам закупок, содержанию заявок на участие в закупках при осуществлении закупок.</a:t>
            </a: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 algn="just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  <a:p>
            <a:pPr marL="332640" indent="-33264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1" name="Номер слайда 3"/>
          <p:cNvSpPr/>
          <p:nvPr/>
        </p:nvSpPr>
        <p:spPr>
          <a:xfrm>
            <a:off x="9396360" y="6580080"/>
            <a:ext cx="28447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87000"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E0DCB2-5B3F-4D6A-91B2-95214933ED76}" type="slidenum">
              <a:rPr b="0" lang="ru-RU" sz="1600" spc="-1" strike="noStrike">
                <a:solidFill>
                  <a:srgbClr val="ffffff"/>
                </a:solidFill>
                <a:latin typeface="Arial"/>
                <a:ea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09480" y="-71640"/>
            <a:ext cx="109728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Arial"/>
            </a:endParaRPr>
          </a:p>
        </p:txBody>
      </p:sp>
      <p:sp>
        <p:nvSpPr>
          <p:cNvPr id="93" name=""/>
          <p:cNvSpPr txBox="1"/>
          <p:nvPr/>
        </p:nvSpPr>
        <p:spPr>
          <a:xfrm>
            <a:off x="609480" y="1341360"/>
            <a:ext cx="10972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spcBef>
                <a:spcPts val="7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 algn="ctr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333399"/>
                </a:solidFill>
                <a:latin typeface="Times New Roman"/>
                <a:ea typeface="Times New Roman"/>
              </a:rPr>
              <a:t>Спасибо за внимание !</a:t>
            </a: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8-24T07:02:51Z</dcterms:created>
  <dc:creator>Нагайчук Е.Г.</dc:creator>
  <dc:description/>
  <dc:language>en-US</dc:language>
  <cp:lastModifiedBy>Кириленко Вероника Дмитриевна</cp:lastModifiedBy>
  <cp:lastPrinted>2023-02-22T06:40:29Z</cp:lastPrinted>
  <dcterms:modified xsi:type="dcterms:W3CDTF">2023-02-22T06:42:48Z</dcterms:modified>
  <cp:revision>1353</cp:revision>
  <dc:subject/>
  <dc:title>Слайд 1</dc:title>
</cp:coreProperties>
</file>