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5C2AD-5EEE-41F8-AEF6-8F65BAD57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D44D0-EB7A-4EAB-A5E8-400FC48B7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B54AA-0D98-4A57-B09D-A0AEE3EE6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5B5DB-8CD5-411F-90BD-4DDAC80BB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AAC63-E240-4692-A70C-D4A3C81084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FE1B-65B5-49F4-AA5B-7B3E63CB4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12C35-AE90-47D7-873B-146A4B664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094F-8C74-4862-95BE-015D1B132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F44C1-6302-4B1C-95BB-69030A466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5D98-1B46-4DE7-A7C1-F0240AF30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B5FB9-B5DF-4EFF-BDDB-1563D86BE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2728E-816E-4B84-A3D2-B6BE148B9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Picture 8" descr="пр2"/>
          <p:cNvPicPr/>
          <p:nvPr/>
        </p:nvPicPr>
        <p:blipFill>
          <a:blip r:embed="rId2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пр 1"/>
          <p:cNvPicPr/>
          <p:nvPr/>
        </p:nvPicPr>
        <p:blipFill>
          <a:blip r:embed="rId3"/>
          <a:stretch/>
        </p:blipFill>
        <p:spPr>
          <a:xfrm>
            <a:off x="0" y="0"/>
            <a:ext cx="1219212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9396360" y="6579720"/>
            <a:ext cx="2844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0FEC-B898-4838-BA82-0F7A7950F86F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пр копия"/>
          <p:cNvPicPr/>
          <p:nvPr/>
        </p:nvPicPr>
        <p:blipFill>
          <a:blip r:embed="rId2"/>
          <a:stretch/>
        </p:blipFill>
        <p:spPr>
          <a:xfrm>
            <a:off x="0" y="0"/>
            <a:ext cx="12192120" cy="263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пр2"/>
          <p:cNvPicPr/>
          <p:nvPr/>
        </p:nvPicPr>
        <p:blipFill>
          <a:blip r:embed="rId3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ubtitle 2"/>
          <p:cNvSpPr/>
          <p:nvPr/>
        </p:nvSpPr>
        <p:spPr>
          <a:xfrm>
            <a:off x="1697040" y="2565360"/>
            <a:ext cx="87915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идеоконференция для представителей государственных и муниципальных заказчиков Ростовской области по вопросам осуществления закуп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. Ростов-на-Д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3.06.20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6"/>
          <p:cNvSpPr/>
          <p:nvPr/>
        </p:nvSpPr>
        <p:spPr>
          <a:xfrm>
            <a:off x="3863880" y="836640"/>
            <a:ext cx="66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Управление Федеральной антимонопольной служб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о Рос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иповые контракты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8366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Часть 11 статьи 34 Закона: Для осуществления заказчиками закупок федеральные органы исполнительной власти, осуществляющие нормативно-правовое регулирование в соответствующей сфере деятельности, разрабатывают и утверждают типовые контракты, типовые условия контрактов, которые размещаются в единой информационной системе и составляют библиотеку типовых контрактов, типовых условий контрактов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словием применения типовых контрактов, типовых условий контрактов является одновременное соответствие показателей для применения типового контракта, типовых условий контракта, указанных в информационной карте, данным, характеризующим конкретную закупку по следующим показателям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) коды закупаемых товаров, работ, услуг по Общероссийскому классификатору продукции по видам экономической деятельности (ОКПД2), Общероссийскому классификатору видов экономической деятельности (ОКВЭД2), а также по каталогу товаров, работ, услуг для обеспечения государственных и муниципальных нужд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) размер начальной (максимальной) цены контракта или цены контракта, заключаемого с единственным поставщиком (подрядчиком, исполнителем)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) иные показатели для применения типового контракта, типовых условий контракта (при наличии иных показателей в информационной карте)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Типовой контракт, типовые условия контракта размещены в библиотеке типовых контрактов, типовых условий контрактов в единой информационной системе в сфере закупок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шения Ростовского УФАС России от 15.06.2021 № 061/06/64-1030/2021,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т 15.06.2021 № 061/06/64-1031/2021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FD2F-F905-4A98-B0AB-9F9BB0EA6305}" type="slidenum">
              <a:rPr b="0" lang="ru-RU" sz="16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аталог товаров, работ и услуг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90792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тановление Правительства от 08.02.2017 № 145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. Заказчики обязаны применять информацию, включенную в позицию каталога, с указанной в ней даты начала обязательного применения. При этом заказчик обязан при осуществлении закупки использовать информацию, включенную в соответствующую позицию, в том числе указывать согласно такой позиции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) наименование товара, работы, услуги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) единицы измерения количества товара, объема выполняемой работы, оказываемой услуги (при наличии)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) описание товара, работы, услуги (при наличии такого описания в позиции)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5. Заказчик вправе указать в извещении об осуществлении закупки, приглашении и документации о закупке дополнительную информацию, а также дополнительные потребительские свойства, в том числе функциональные, технические, качественные, эксплуатационные характеристики товара, работы, услуги в соответствии с положениями статьи 33 Федерального закона, которые не предусмотрены в позиции каталога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6. </a:t>
            </a:r>
            <a:r>
              <a:rPr b="0" lang="ru-RU" sz="1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В случае предоставления дополнительной информации, предусмотренной пунктом 5 настоящих Правил, заказчик обязан включить в описание товара, работы, услуги обоснование необходимости использования такой информации (при наличии описания товара, работы, услуги в позиции каталога)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шения Ростовского УФАС России от 16.06.2021 № 061/06/64-1046/2021,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т 17.06.2021 № 061/06/64-1058/2021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BD29-92BE-407A-8D88-78D1C0E54C4F}" type="slidenum">
              <a:rPr b="0" lang="ru-RU" sz="16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аталог товаров, работ и услуг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сходя из административной и судебной практики, следует заключить, что конкретных требований к содержанию обоснования законодательно не установлено. Вместе с тем, </a:t>
            </a:r>
            <a:r>
              <a:rPr b="0" lang="ru-RU" sz="1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диспозиция п.6 Правил однозначно свидетельствует о необходимости сопровождения каждой не предусмотренной Каталогом информации, включенной в описание объекта закупки обоснованием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 Общее обоснование, которое подготавливает Заказчик, не дает представление о том, какая из характеристик конкретно этим обоснованием сопровождена, все ли они сопровождены именно этим обоснованием. Общее обоснование сводится к тому, что установленные характеристики обусловлены потребностью Заказчика, что, само по себе и является основанием для применения п.5-6 Правил, однако, диспозиция указанных пунктов все же обязывает заказчиков привести конкретное обоснование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шения Ростовского УФАС России от 21.05.2021 № 061/06/64-888/2021,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т 16.06.2021 № 061/06/67-1035/2021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A932-6C0A-4894-8818-FD9A049F1B6A}" type="slidenum">
              <a:rPr b="0" lang="ru-RU" sz="16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менения Постановления Правительства № 99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8366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силу положений Постановления Правительства от 04.02.2015 № 99 для подтверждения соответствия участника закупки дополнительным требования необходимо предоставление копии исполненного контракта (договора); копий акта (актов) выполненных работ; копии разрешения на ввод объекта капитального строительства в эксплуатацию (за исключением случаев…)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частником закупки в составе дополнительно направленных документов представлены копия разрешения на строительство, копия разрешения на ввод в эксплуатацию объекта капитального строительства, акт о соответствии параметров построенного объекта капитального строительства проектной документации, в том числе требованиям энергетической эффективности и требованиям оснащенности объектов капитального строительства приборами учета используемых энергетических ресурсов, подписанный лицом, осуществляющим строительство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кольку </a:t>
            </a:r>
            <a:r>
              <a:rPr b="0" lang="ru-RU" sz="1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участник является застройщиком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комиссия заказчика признала заявку соответствующей в отсутствии исполненного контракта на необходимую сумму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уды исходили из того, что заявка участника не отвечала требованиям аукционной документации, поскольку </a:t>
            </a:r>
            <a:r>
              <a:rPr b="0" lang="ru-RU" sz="1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из представленных документов невозможно объективно подтвердить стоимость выполненных работ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 При этом </a:t>
            </a:r>
            <a:r>
              <a:rPr b="0" lang="ru-RU" sz="1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установление стоимости работ возможно путем сопоставления положений контракта и содержания актов выполненных работ, которые отсутствовали, поэтому заявка признана не соответствующей требованиям Постановления № 99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тановление Арбитражного суда Северо-Кавказского округа от 17.06.2021 по делу № А53-16199/2020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62A9-90F1-4E94-8E08-E9561C3E63A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8080"/>
            <a:ext cx="10972800" cy="6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естр недобросовестных поставщиков (подрядчиков, исполнителей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480" y="9810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ссмотрев обращение заказчика, Комиссия Ростовского УФАС России вынесла решение №РНП-61-207,  которым сведения в отношении общества, единоличного исполнительного органа общества, учредителя (участника) юридического лица включены в реестр недобросовестных поставщиков сроком на 2 года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чредитель общества обратился в суд с заявлением о признании незаконным указанного решения. В обоснование заявления указано, что антимонопольным органом рассмотрен вопрос о включении информации об участниках закупок без участия представителей лиц, информация о которых направлена заказчиком для включения в реестр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удом в удовлетворении заявления отказано, при этом установлено следующее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читывая законодательно ограниченные сроки рассмотрения обращения, а также факт надлежащего уведомления общества о таком рассмотрении, оспариваемое решение вынесено в соответствии с требованиями пунктов 11, 12 Правил №1062. Отсутствие уведомлений директора и учредителя общества не влечет  безусловную отмену оспариваемого решения, поскольку законным представителем общества является его директор, то надлежащее извещение общества свидетельствует и о надлежащем извещении как директора общества, так и его единственного участника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опреки аргументам заявителя юридическое лицо, его законный представитель извещены о рассмотрении указанного вопроса, что следует из оспариваемого решения антимонопольного органа, в котором указано на участие в заседании представителя общества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шение Арбитражного суда Ростовской области от 15.06.2021 по делу № А53-6945/2021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EB08-C5F6-4BFA-80CE-27DDCCF6D060}" type="slidenum">
              <a:rPr b="0" lang="ru-RU" sz="16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-71640"/>
            <a:ext cx="10972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7:02:51Z</dcterms:created>
  <dc:creator>Нагайчук Е.Г.</dc:creator>
  <dc:description/>
  <dc:language>en-US</dc:language>
  <cp:lastModifiedBy>Иванкова Софья Александровна</cp:lastModifiedBy>
  <cp:lastPrinted>2021-01-27T10:43:38Z</cp:lastPrinted>
  <dcterms:modified xsi:type="dcterms:W3CDTF">2021-06-23T10:25:35Z</dcterms:modified>
  <cp:revision>1286</cp:revision>
  <dc:subject/>
  <dc:title>Слайд 1</dc:title>
</cp:coreProperties>
</file>