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14B1-9D27-47B7-ABEE-D2CB484DE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664A-B6E1-4D18-939D-A7D211798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2AF0-D889-46AC-83E6-7BA640727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160FC-9ECA-4721-B6C7-2E7BD8365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DC0A8-DAE7-4674-8C08-DA8C6C751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A1EE-54D0-40BD-939D-5F39EC98D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550E-59CA-431F-9784-86C327410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0F5F-4D9E-4FEC-ABB8-5063A2028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ACC97-D1AE-4AD2-AA0C-17AF5ED03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405B0-653C-43FA-BB77-713AEFC50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83EC-B637-497A-BA42-0A6C1EBAA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ACC73-2E98-4EE1-99FC-7D14B8236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1219212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9396360" y="6579720"/>
            <a:ext cx="2844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5B23-E136-44F3-A3CA-FE5CA815190D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1219212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ubtitle 2"/>
          <p:cNvSpPr/>
          <p:nvPr/>
        </p:nvSpPr>
        <p:spPr>
          <a:xfrm>
            <a:off x="1697040" y="2565360"/>
            <a:ext cx="87915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идеоконференция для представителей государственных и муниципальных заказчиков Ростовской области по вопросам осуществления закуп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  <a:ea typeface="Arial"/>
              </a:rPr>
              <a:t>г. Ростов-на-Д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25.02.20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3863880" y="836640"/>
            <a:ext cx="66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  <a:ea typeface="MS PGothic"/>
              </a:rPr>
              <a:t>Управление Федеральной антимонопольной службы по Рос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41904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дтверждение соответствия дополнительным требованиям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Часть 4 статьи 31 Закона: в случае установления Правительством Российской Федерации в соответствии с частями 2 и 2.1 настоящей статьи дополнительных требований к участникам закупок заказчики при определении поставщиков (подрядчиков, исполнителей) обязаны устанавливать такие дополнительные требования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Часть 8.2 статьи 66 Закона: </a:t>
            </a:r>
            <a:r>
              <a:rPr b="0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электронные документы (их копии), подтверждающие соответствие участника электронного аукциона дополнительным требованиям, установленным в соответствии с частями 2 и 2.1 статьи 31 Закона, не включаются участником такого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аукциона</a:t>
            </a:r>
            <a:r>
              <a:rPr b="0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 в состав второй части заявки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Часть 7 статьи 56.1 Закона: </a:t>
            </a:r>
            <a:r>
              <a:rPr b="0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вторая часть заявки на участие в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конкурсе с ограниченным участием </a:t>
            </a:r>
            <a:r>
              <a:rPr b="0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в электронной форме наряду с информацией и электронными документами, предусмотренными частью 6 статьи 54.4 настоящего Федерального закона, должна содержать документы, подтверждающие соответствие участников закупки предъявляемым к ним дополнительным требованиям в соответствии с частью 2 статьи 31 настоящего Федерального закона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1175-1C8A-45AF-B55E-E41685BA5B0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оварный знак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26828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оектная документация, размещенная в Единой информационной системе как часть аукционной документации, содержит указание на товарные знаки. Положений о возможности поставки эквивалентной продукции, сопровождение товарных знаков словами «или эквивалент» в аукционной документации не содержится, что Заказчиком не оспаривается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сходя из норм законодательства о контрактной системе в сфере закупок следует, что применение термина «или эквивалент» является обязательным при указании в документации на товарный знак (статья 33 Закона). При этом законодателем определен исчерпывающий перечень исключений из указанного правила в случае несовместимости товаров, на которых размещаются другие товарные знаки, и необходимости обеспечения взаимодействия таких товаров с товарами, используемыми заказчиком, либо при условии закупок запасных частей и расходных материалов к машинам и оборудованию, используемым заказчиком, в соответствии с технической документацией на указанные машины и оборудование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казание на товарный знак не должно входить в противоречие с общими принципами конкурентного законодательства (в части обеспечения равных условий для участников электронных аукционов, гарантий по реализации их права на участие в торгах, а также требованиями ст.17 Закона о защите конкуренции, запрещающей совершение любых действий, которые приводят или могут привести к недопущению, ограничению или устранению конкуренции при проведении торгов)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08C0-A9A9-41BE-B945-45A2AD8FA42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аталог товаров, работ, услуг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63160" y="907920"/>
            <a:ext cx="1152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соответствии с частью 6 статьи 23 Федерального закона "О контрактной системе в сфере закупок товаров, работ, услуг для обеспечения государственных и муниципальных нужд" Постановлением Правительства Российской Федерации  от 08.02.2017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145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утверждены Правила формирования и ведения в единой информационной системе в сфере закупок каталога товаров, работ, услуг для обеспечения государственных и муниципальных нужд и Правила использования каталога товаров, работ, услуг для обеспечения государственных и муниципальных нужд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ункт 4 Правил использования КТРУ: Заказчики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язаны применять информацию, включенную в позицию каталога с указанной в ней даты начала обязательного применения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 При этом заказчик обязан при осуществлении закупки использовать информацию, включенную в соответствующую позицию, в том числе указывать согласно такой позиции наименование товара, работы, услуги; единицы измерения количества товара, объема выполняемой работы, оказываемой услуги (при наличии);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писание товара, работы, услуги (при наличии такого описания в позиции)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ункт 5 Правил использования КТРУ: Заказчик вправе указать дополнительную информацию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 исключением осуществления закупки радиоэлектронной продукции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включенной в перечень, утвержденный постановлением Правительства Российской Федерации от 10 июля 2019 г. N 878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 условии установления в соответствии с указанным постановлением ограничения на допуск радиоэлектронной продукции, происходящей из иностранных государств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если иное не предусмотрено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собенностями описания лекарственных препаратов для медицинского применения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утвержденными Постановлением Правительства РФ от 15.11.2017 N 1380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F74F-88FF-40C7-9FEF-B09C54F9C98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560" y="26028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олько генеральный подряд в качестве подтверждения соответствия дополнительным требованиям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92240" y="1197000"/>
            <a:ext cx="1135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о исполнение части 4 статьи 31 Закона, Заказчик  обязан  установить  дополнительные  требования  к  участникам  закупки,  в соответствии с Постановлением № 99. В подтверждение наличия у участника опыта исполнения работ определенного вида, требуемого Заказчику, им предоставляются следующие документы: -копия исполненного контракта (договора); -копия  акта  (актов)  выполненных  работ,  содержащего  (содержащих)  все обязательные  реквизиты,  установленные  частью  2  статьи  9  Федерального  закона  «О бухгалтерском учете», и подтверждающего (подтверждающих) стоимость исполненного контракта  (договора)  (за  исключением  случая,  если  застройщик  является  лицом, осуществляющим строительство); -копия разрешения на ввод объекта капитального строительства в эксплуатацию.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частник закупки, заявка которого признана аукционной комиссией соответствующей требованиям документации и нормам Закона, в подтверждение опыта выполнения работ представил копию договора субподряда от 18.08.2018 No071801 на выполнение работ по  капитальному ремонту МБУК «ДК им. Гагарина», на сумму 15 902 340 руб., а также копии документов, подтверждающих выполнение работ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Решении ФАС России от 27.06.2019 по делу No 19/44/99/322 выражена правовая позиция, согласно которой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лицо, выполнявшее в качестве субподрядчика отдельные виды строительных  работ,  не  имеет  надлежащего  опыта  строительства  самого  объекта капитального строительства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ледовательно,  участником  закупки в  составе  заявки  не представлены  документы,  подтверждающие  соответствие  участника  аукциона дополнительным  требованиям,  установленным  аукционной  документацией  и Постановлением № 99, поскольку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лицо, выполнявшее в качестве субподрядчика отдельные виды строительных работ, не имеет надлежащего опыта строительства самого объекта капитального строительства</a:t>
            </a: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 Признание данной заявки, соответствующей требованиям документации  об  аукционе  и  нормам  Закона,  осуществлено  комиссией  Заказчика  в нарушение законодательства о контрактной системе в сфере закупок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новление Пятнадцатого арбитражного апелляционного суда по делу № А53-6403/2020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6A19-ED17-4B75-90ED-D5D8BE0F0726}" type="slidenum">
              <a:rPr b="0" lang="ru-RU" sz="16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4680" y="24120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Эксплуатация дождевой канализации, искусственных сооружений и содержание очистных сооружений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07520" y="1052640"/>
            <a:ext cx="112460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унктом 1 статьи 3 Федерального закона от 08.11.2007 № 257-ФЗ «Об автомобильных дорогах и о дорожной деятельности в Российской Федерации и о внесении изменений в отдельные законодательные акты Российской Федерации» указано, что автомобильная дорога - это объект транспортной инфраструктуры, предназначенный для движения транспортных средств и включающий в себя земельные участки в границах полосы отвода автомобильной дороги и расположенные на них или под ними конструктивные элементы (дорожное полотно, дорожное покрытие и подобные элементы) и дорожные сооружения, являющиеся ее технологической частью, -защитные дорожные сооружения, искусственные дорожные сооружения, производственные объекты, элементы обустройства автомобильных дорог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гласно пункту 6 раздела 4 приказа Министерства транспорта РФ от 16.11.2012 №402 «Об утверждении Классификации работ по капитальному ремонту, ремонту и содержанию автомобильных дорог» в состав работ по содержанию автомобильных дорог входят поддержание элементов системы водоотвода в чистоте и порядке (в том числе прочистка, профилирование, укрепление стенок и дна кюветов и водоотводных канав, устранение дефектов их укреплений, прочистка и устранение мелких повреждений ливневой канализации, дренажных устройств, быстротоков, водобойных колодцев, перепадов, лотков, подводящих и отводящих русел у труб и мостов)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аким образом, ливневая канализация является неотъемлемой частью автомобильных дорог, работы по ее содержанию являются работами по содержанию автомобильной дороги (автомобильных дорог). Постановлением Правительства № 99 деятельность по выполнению работ по ремонту, содержанию автомобильных дорог отнесена к требующей дополнительного опыта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шение Арбитражного суда Ростовской области по делу № А53-21948/2020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9DB9-6ED3-4154-8A9A-6DB22EA80D1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-71640"/>
            <a:ext cx="10972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Нагайчук Е.Г.</dc:creator>
  <dc:description/>
  <dc:language>en-US</dc:language>
  <cp:lastModifiedBy>Иванкова Софья Александровна</cp:lastModifiedBy>
  <cp:lastPrinted>2021-01-27T10:43:38Z</cp:lastPrinted>
  <dcterms:modified xsi:type="dcterms:W3CDTF">2021-02-25T11:51:52Z</dcterms:modified>
  <cp:revision>1267</cp:revision>
  <dc:subject/>
  <dc:title>Слайд 1</dc:title>
</cp:coreProperties>
</file>