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8327-FD70-48AB-9F42-DAFE82C93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1694-CE53-4CC6-9E56-AB5F5C24D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2C2FB-E6FE-4BC9-ADBC-16AC75072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190A-C8F7-4E70-BCDD-0EE7A9741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D893-B501-405D-A4A4-71AB52109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C614-0997-411E-AB57-4AAD5D40D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B8AC-72B9-460C-8AD2-02F74C1F6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61F0-B1D0-40CC-AA75-015A5F309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6D9A-60A2-4A81-A697-F871FD065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34164-38D5-427C-8497-64E152959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1BC3-5CD8-4278-81C1-903F0D1F6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5B7F3-04F2-40D3-AEEF-3096D8E03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1219212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9396360" y="6579720"/>
            <a:ext cx="2844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7FFA-FEA7-4D24-9C8B-6EA536E71CB3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1219212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ubtitle 2"/>
          <p:cNvSpPr/>
          <p:nvPr/>
        </p:nvSpPr>
        <p:spPr>
          <a:xfrm>
            <a:off x="1697040" y="2565360"/>
            <a:ext cx="87915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идеоконференция для представителей государственных и муниципальных заказчиков Ростовской области по вопросам осуществления заку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. Ростов-на-Д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6.05.20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3863880" y="836640"/>
            <a:ext cx="66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Управление Федеральной антимонопольной служ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 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плата поставленного товара, выполненной работы, оказанной услуг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197000"/>
            <a:ext cx="109728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Часть 13.1 ст.34 Закона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рок оплаты заказчиком поставленного товара, выполненной работы (ее результатов), оказанной услуги, отдельных этапов исполнения контракта, предусмотренный контрактом, заключенным по результатам определения поставщика (подрядчика, исполнителя), если извещение об осуществлении закупки размещено в единой информационной системе либо приглашения принять участие в закупке направлены с 1 мая 2022 года должен составлять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 более семи рабочих дней с даты подписания заказчиком документа о приемке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за исключением случаев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если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) иной срок оплаты установлен законодательством Российской Федерации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) оформление документа о приемке осуществляется без использования единой информационной системы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) в соответствии с законодательством Российской Федерации расчеты по контракту или расчеты по контракту в части выплаты аванса подлежат казначейскому сопровождению, при этом срок оплаты должен составлять не более десяти рабочих дней с даты подписания документа о приемке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) Правительством Российской Федерации в целях обеспечения обороноспособности и безопасности государства установлен иной срок оплаты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шения от 17.05.2022 №061/06/34-637/2022, от 24.05.2022 №061/06/42-652/2022,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 24.05.2022 №061/06/42-650,651/2022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C142-F83D-4A06-9FA7-3A978EE9FF8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дицинское оборудование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1970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звещение об осуществлении закупки содержит: «</a:t>
            </a:r>
            <a:r>
              <a:rPr b="0" i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случае если код медицинского изделия не будет соответствовать, заявка будет отклонена.»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) Из Письма Минздрава России от 12.04.2013 №2041548/25-3 следует, что код вида медицинского изделия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 является качественной, функциональной, технологической и эксплуатационной характеристикой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 является документом (способом), позволяющим удостовериться в соответствии товара требованиям законодательства РФ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) Код вида медицинского изделия, наименование вида медицинского изделия, а также классификационные признаки вида медицинского изделия, указываемые в зависимости от назначения медицинского изделия, отраженные в позиции КТРУ (соответствующей закупаемому товару) в качестве справочной информации не образуют описания объекта закупки в понимании ст. 33 Закона и не включены в перечень информации, подлежащей обязательному использованию заказчиком при осуществлении закупки (п.4 Правил использования каталога ПП РФ от 08.02.2017 № 145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налогичная позиция Министерства финансов Российского Федерации отражена в письмах от 04.09.2020 № 24-06-08/77872, от 23.03.2022 № 24-06-07/22512, от 21.01.2020 № 24-06-07/2815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шение от 24.05.2022 № 061/06/42-652/2022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шение Арбитражного суда Ростовской области от 18.01.2022 № А53-30379/2021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D24E-4EF0-4801-ACAC-31278837F27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740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аталог товаров, работ и услуг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17400" y="1125360"/>
            <a:ext cx="109728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авила использования каталога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. Заказчик обязан при осуществлении закупки использовать информацию, включенную в соответствующую позицию, в том числе указывать согласно такой позиции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) наименование товара, работы, услуги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) единицы измерения количества товара, объема выполняемой работы, оказываемой услуги (при наличии)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) описание товара, работы, услуги (</a:t>
            </a:r>
            <a:r>
              <a:rPr b="0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при наличии такого описания в позиции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7. В случае осуществления закупки товара, работы, услуги, в отношении которых в каталоге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сутствуют соответствующие позиции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заказчик осуществляет описание товара, работы, услуги в соответствии с требованиями статьи 33 Федерального закона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8. При включении в состав одного лота (одного товара, работы, услуги) нескольких товаров, работ, услуг, на которые в каталоге имеются подлежащие применению позиции каталога и на которые в каталоге отсутствуют соответствующие позиции, заказчик руководствуется требованиями настоящих Правил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отношении каждого такого товара, работы услуги, на которые в каталоге имеется подлежащая применению позиция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шения от 19.05.2022 № 061/06/42-620/2022, от 19.05.2022 № 061/06/42-639/2022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8B24-5D13-4E0F-A5AF-86B9094C4F9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естр контрактов, заключенных заказчикам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907560"/>
            <a:ext cx="10972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Часть 3 статьи 103 Закона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871D-C500-4A3D-82C1-6A76A42B8B40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07880" y="1413000"/>
          <a:ext cx="11592000" cy="4248000"/>
        </p:xfrm>
        <a:graphic>
          <a:graphicData uri="http://schemas.openxmlformats.org/drawingml/2006/table">
            <a:tbl>
              <a:tblPr/>
              <a:tblGrid>
                <a:gridCol w="5796000"/>
                <a:gridCol w="5796000"/>
              </a:tblGrid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контра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и пяти рабочих дней с даты заклю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ение изменений в условия контра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пяти рабочих дней с даты внесения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контракта (отдельного этапа исполнения контракта), начисление неустоек (штрафов, пеней), заключение по результатам экспертизы, расторжение контра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зднее пяти рабочих дней со дня, следующего за днем соответственно исполнения контракта (отдельного этапа исполнения контракта), расторжения контра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я о приемке поставленного товара, выполненной работы (ее результатов), оказанной услуги, отдельных этапов исполнения контракта с приложением документа о прием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зднее одного рабочего дня со дня, следующего за днем подписания документа о прием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контракт, документ о приемке, соглашение об изменении контракта, соглашение о расторжении контракта, решение об одностороннем отказе от исполнения контракт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саны с использованием единой информационной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зднее трех рабочих дней со дня, следующего за днем подписания таких контракта, соглашений и решения,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день подписания документа о прием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4800" y="1908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уществление строительства, реконструкции, капитального ремонт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148428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Часть 2.1 ст.52 Градостроительного кодекса Российской Федерации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 1 мая 2022 увеличен размер обязательств по одному договору строительного подряда, работы по которому вправе выполнять подрядчик, не имеющий членства в саморегулируемых организаций в области строительства, реконструкции, капитального ремонта объектов капитального строительства, до десяти миллионов рублей. (ранее предельная цена в таких случаях составляла три миллиона рублей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32F8-6026-4040-9375-D11951AB0CB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71640"/>
            <a:ext cx="10972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480" y="134136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Нагайчук Е.Г.</dc:creator>
  <dc:description/>
  <dc:language>en-US</dc:language>
  <cp:lastModifiedBy>Иванкова Софья Александровна</cp:lastModifiedBy>
  <cp:lastPrinted>2021-08-26T07:21:30Z</cp:lastPrinted>
  <dcterms:modified xsi:type="dcterms:W3CDTF">2022-05-26T10:27:19Z</dcterms:modified>
  <cp:revision>1327</cp:revision>
  <dc:subject/>
  <dc:title>Слайд 1</dc:title>
</cp:coreProperties>
</file>