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F155-11CB-446D-92DC-9AA620476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D8220-08BF-4C45-A08E-0E5034EACA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9C9B-8C2E-4474-88F5-5E1E06C90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92DB-F06B-4E17-89EF-0E93F137D6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54D8-9333-443B-BAC3-E1A792FFE9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FCDD-1D02-485B-925F-119532ED23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8F5C-CA87-42AE-82ED-71275D5D3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265E7-16F3-4631-BFE2-74C021225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AEC1-ACFA-4A0B-8853-6B2ACD44A4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FB379-F03B-4939-813A-35C7452EB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4B73-81FA-4C75-9CD6-90F27A4F5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22B65-1780-4859-9DBD-2F6C57E6C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49FA-6A58-4CEB-B16C-53F7DA04CBF8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6.11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естр недобросовестных поставщик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30.06.2021 № 1078 "О порядке ведения реестра недобросовестных поставщиков (подрядчиков, исполнителей), о внесении изменений в некоторые акты Правительства Российской Федерации и признании утратившими силу некоторых актов и отдельных положений некоторых актов Правительства Российской Федерации"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 3 Постановления: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ращение формируется по форме согласно приложению N 1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направляется в срок, предусмотренный частью 4 статьи 104 Закона, заказчиком либо уполномоченным органом или уполномоченным учреждением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разделов Приложения № 1 к Правилам ведения реестра недобросовестных поставщиков (подрядчиков, исполнителей) раскрыто в пунктах 4-7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лучае формирования обращения не по форме, предусмотренной приложением N 1 к настоящим Правилам, и (или) непредставления информации и документов, предусмотренных пунктами 3 - 8 настоящих Правил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рган контроля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 осуществляет действия, предусмотренные пунктом 13 настоящих Правил, и не позднее одного рабочего дня со дня, следующего за днем регистрации такого обращения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правляет заказчику уведомление о несоответствии обращения положениям настоящих Правил (с указанием выявленного несоответствия) и о необходимости направить информацию и документы, предусмотренные настоящими Правилами, по форме согласно приложению N 2 к настоящим Правилам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DCA8-7C2E-4F67-8440-8133762BB68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 87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Ограничение на допуск радиоэлектронной продукции, происходящей из иностранных государств, не устанавливается, есл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едином реестре российской радиоэлектронной продукции и евразийском реестре промышленных товаров отсутствует продукция, соответствующая тому же классу (функциональному назначению) радиоэлектронной продукции, планируемой к закупке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(или) радиоэлектронная продукция, включенная в единый реестр российской радиоэлектронной продукции или евразийский реестр промышленных товаров, по своим функциональным, техническим и (или) эксплуатационным характеристикам не соответствует установленным заказчиком требованиям к планируемой к закупке радиоэлектронной продук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Подтверждением случая, установленного пунктом 4 Постановления, является разрешение на закупку происходящего из иностранного государства промышленного товара, выданное в порядке, установленном Министерством промышленности и торговли Российской Федера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исьмо Минпромторга России от 01.10.2021 N ПГ-11-9743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18.10.2021 №№ 061/06/64-1717, 1718/2021, 061/06/64-1725/2021,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25.11.2021 № 061/06/64-1884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56D5-587A-46C5-A54F-F8D5B344D779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 123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480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. Установлен запрет на допуск программ для электронных вычислительных машин и баз данных, реализуемых независимо от вида договора на материальном носителе и (или) в электронном виде по каналам связи, происходящих из иностранных государств (за исключением государств - членов Евразийского экономического союза), а также исключительных прав на такое программное обеспечение и прав использования такого программного обеспечения (далее - программное обеспечение и (или) права на него), для целей осуществления закупок для обеспечения государственных и муниципальных нужд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снование подготавливается заказчиком при осуществлении закупки программного обеспечения в следующих случаях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в едином реестре российских программ для электронных вычислительных машин и баз данных и реестре евразийского программного обеспечения отсутствуют сведения о программном обеспечении, соответствующем тому же классу программного обеспечения, что и программное обеспечение, планируемое к закупке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программное обеспечение, сведения о котором включены в реестр российского программного обеспечения и (или) реестр евразийского программного обеспечения и которое соответствует тому же классу программного обеспечения, что и программное обеспечение, планируемое к закупке, по своим функциональным, техническим и (или) эксплуатационным характеристикам не соответствует установленным заказчиком требованиям к планируемому к закупке программному обеспечению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Арбитражного суда Ростовской области от 11.11.2021 по делу № А53-27158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е Ростовского УФАС России от 22.11.2021 № 061/06/64-1871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FCB-301E-410F-A909-42BDF20739C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нение КТРУ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от 08.02.2017 № 145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и обязаны применять информацию, включенную в позицию каталога, с указанной в ней даты начала обязательного применения. При этом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товара, работы, услуг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диницы измерения количества товара, объема выполняемой работы, оказываемой услуги (при наличи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описание товара, работы, услуги (при наличии такого описания в позиц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Заказчик вправе указать в извещении об осуществлении закупки, приглашении и документации о закупке дополнительную информацию, а также дополнительные потребительские свойства, в том числе функциональные, технические, качественные, эксплуатационные характеристики товара, работы, услуги в соответствии с положениями статьи 33 Федерального закона, которые не предусмотрены в позиции каталог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В случае предоставления дополнительной информации, предусмотренной пунктом 5 настоящих Правил, заказчик обязан включить в описание товара, работы, услуг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основание необходимости использования такой информации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при наличии описания товара, работы, услуги в позиции каталога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12.11.2021 № 061/06/64-1834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6.11.2021 № 061/06/67-1842/2021, № 061/06/64-1843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8.11.2021 № 061/06/64-1853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9408960" y="6597720"/>
            <a:ext cx="28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430-BE0D-45E3-8D19-77159D348BB4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80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едеральный закон от 05.04.2013 N 44-ФЗ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5160" y="907920"/>
            <a:ext cx="1188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кращение конкурентных процедур – 3: конкурс, аукцион, запрос котировок в электронной форме (ранее – 11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явка станет единой (ранее – 2 части заявки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сение изменений в извещение – не позже, чем за 1 рабочий день до окончания срока подачи заявок (ранее – Не позже, чем за 2 рабочих дня до окончания срока подачи заявок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жалование в контрольный орган – только в электронной форме через ЕИС (ранее – электронная почта, нарочно, ЕИС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кументация о закупке упраздняется – остается только извещение (исключение – закрытые процедуры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ниверсальная предквалификация – ограничение для участников закупок стоимостью свыше 20 млн рублей. В таких закупках смогут принять участие только поставщики с успешным опытом исполнения контракта стоимостью не менее 20% от Н(М)ЦК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езависимая гарантия – как способ обеспечения исполнения контракта (ранее – только банковская гарантия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кументооборот по контракту – через ЕИС (ранее – ЕИС и почтовые уведомления, эл.почта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ремя на подачу ценового предложения – 4 минуты (ранее – 10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ее время торга – не больше 5 часов (ранее – б/о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кращение сроков на оплату ТРУ – 10/15 дней (ранее 15/30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ля закупок у СМП – 25% от СГОЗ (ранее – 15%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лектронный аукцион проводится через 2 часа с момента окончания срока подачи заявок на участие в закупке (ранее – следующий день за датой рассмотрения 1х частей заявок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оставе заявки не требуется декларирования принадлежности к СМП (ранее – требовалось указать в составе второй части);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Заявка будет автоматически отклонена оператором ЭП, если установлен запрет на поставку иностранных ТРУ, а участник предлагает иностранные ТРУ (с использованием классификатора стран мира указана иностранная страна (страны) происхождения товара)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B8B0-9B08-4319-BF0B-58133563D00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Максим Алексеевич Кузнецов</cp:lastModifiedBy>
  <cp:lastPrinted>2021-08-26T07:21:30Z</cp:lastPrinted>
  <dcterms:modified xsi:type="dcterms:W3CDTF">2021-11-26T11:24:11Z</dcterms:modified>
  <cp:revision>1302</cp:revision>
  <dc:subject/>
  <dc:title>Слайд 1</dc:title>
</cp:coreProperties>
</file>