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3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81BF-1770-4B20-AFB6-AB6E3AC71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6CE6C-332A-47D5-878F-37197D817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CC3C-EE31-4EC2-8A35-D29032D9F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C129-60CF-41E5-A274-765E75770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6AF3-F24C-4870-A341-87031A334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DFFE-CEA7-4D10-8B70-501DD12A7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4A93-30C6-430C-8DEC-4BBDE5A8A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DF62E-436A-4D12-A28F-AB32B5E61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B13A9-49D7-46FD-A083-3143F9372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34882-3B2A-47E6-B11E-F5D66173F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0CB4-F94D-4DBE-A161-4046DB5FB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4198-E55A-4E16-9A8F-AAA78FB85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1219212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9396360" y="6579720"/>
            <a:ext cx="2844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7551-182C-40A6-9555-3AF6293EF339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1219212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ubtitle 2"/>
          <p:cNvSpPr/>
          <p:nvPr/>
        </p:nvSpPr>
        <p:spPr>
          <a:xfrm>
            <a:off x="1697040" y="2565360"/>
            <a:ext cx="87915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идеоконференция для представителей государственных и муниципальных заказчиков Ростовской области по вопросам осуществления заку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. Ростов-на-Д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8.02.20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3863880" y="836640"/>
            <a:ext cx="66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Управление Федеральной антимонопольной служ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 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аталог товаров, работ и услуг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125360"/>
            <a:ext cx="109728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 Правительства от 08.02.2017 № 145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. Заказчики обязаны применять информацию, включенную в позицию каталога, с указанной в ней даты начала обязательного применения. При этом заказчик обязан при осуществлении закупки использовать информацию, включенную в соответствующую позицию, в том числе указывать согласно такой позиции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) наименование товара, работы, услуги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) единицы измерения количества товара, объема выполняемой работы, оказываемой услуги (при наличии)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) описание товара, работы, услуги (при наличии такого описания в позиции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. Заказчик вправе указать в извещении об осуществлении закупки, приглашении и документации о закупке дополнительную информацию, а также дополнительные потребительские свойства, в том числе функциональные, технические, качественные, эксплуатационные характеристики товара, работы, услуги в соответствии с положениями статьи 33 Федерального закона, которые не предусмотрены в позиции каталога за исключением а) осуществления закупки радиоэлектронной продукции, включенной в пункты 25(1) - 25(7) перечня постановления Правительства Российской Федерации от 30 апреля 2020 г. N 616, а также осуществления закупки радиоэлектронной продукции, включенной в перечень постановления Правительства Российской Федерации от 10 июля 2019 г. N 878; б) если иное не предусмотрено особенностями описания отдельных видов объектов закупок (Постановление Правительства РФ от 15.11.2017 N 1380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1980-74A7-4751-9DFD-5103670FBDF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аталог товаров, работ и услуг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6. В случае предоставления дополнительной информации, предусмотренной пунктом 5 настоящих Правил, заказчик обязан включить в описание товара, работы, услуги обоснование необходимости использования такой информации (при наличии описания товара, работы, услуги в позиции каталога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сходя из административной и судебной практики, следует заключить, что конкретных требований к содержанию обоснования законодательно не установлено. Вместе с тем, диспозиция п.6 Правил однозначно свидетельствует о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обходимости сопровождения каждой не предусмотренной Каталогом информации, включенной в описание объекта закупки обоснованием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 Общее обоснование, которое подготавливает Заказчик, не дает представление о том, какая из характеристик конкретно этим обоснованием сопровождена, все ли они сопровождены именно этим обоснованием. Общее обоснование сводится к тому, что установленные характеристики обусловлены потребностью Заказчика, что, само по себе и является основанием для применения п.5-6 Правил, однако, диспозиция указанных пунктов все же обязывает заказчиков привести конкретное обоснование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F8E1-8B58-41D6-8FDC-FAE7D058D29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дицинские изделия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8366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 Правительства РФ от 19.04.2021 N 620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 осуществлении закупок медицинских изделий не могут быть предметом одного контракта (одного лота) медицинские изделия различных видов в соответствии с номенклатурной классификацией медицинских изделий по видам, утвержденной Министерством здравоохранения Российской Федерации, при условии, что значение начальной (максимальной) цены контракта (цены лота) превышает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600 тыс. рублей - для заказчиков, у которых объем денежных средств, направленных на закупку медицинских изделий в предшествующем году, составил менее 50 млн. рублей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 млн. рублей - для заказчиков, у которых объем денежных средств, направленных на закупку медицинских изделий в предшествующем году, составил от 50 млн. рублей до 100 млн. рублей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,5 млн. рублей - для заказчиков, у которых объем денежных средств, направленных на закупку медицинских изделий в предшествующем году, составил более 100 млн. рублей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оменклатурная классификация медицинских изделий по видам содержит числовое обозначение вида медицинского изделия - идентификационный уникальный номер записи, наименование вида медицинского изделия, описание вида медицинского изделия, содержащее соответствующие классификационные признаки вида медицинского изделия, указываемые в зависимости от назначения медицинского изделия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гласно сведениям с официального сайта Росздавнадзора, числовое обозначение вида медицинского изделия – шестизначный идентификационный уникальный номер записи, представленный на сайте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исьмо ФАС России № ПИ/79210/21 от 20.09.2021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3504-5A59-4007-9852-FF876B8BC8A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естр недобросовестных поставщиков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8040" y="9810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 Правительства РФ от 30.06.2021 № 1078 «О порядке ведения реестра недобросовестных поставщиков (подрядчиков, исполнителей), о внесении изменений в некоторые акты Правительства Российской Федерации и признании утратившими силу некоторых актов и отдельных положений некоторых актов Правительства Российской Федерации»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ункт 3 Постановления: Обращение формируется по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орме согласно приложению N 1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 направляется в срок, предусмотренный частью 4 статьи 104 Закона, заказчиком либо уполномоченным органом или уполномоченным учреждением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разделов Приложения № 1 к Правилам ведения реестра недобросовестных поставщиков (подрядчиков, исполнителей) раскрыто в пунктах 4-7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случае формирования обращения не по форме, предусмотренной приложением N 1 к настоящим Правилам, и (или) непредставления информации и документов, предусмотренных пунктами 3 - 8 настоящих Правил, орган контроля не осуществляет действия, предусмотренные пунктом 13 настоящих Правил, и направляет заказчику уведомление о несоответствии обращения положениям настоящих Правил (с указанием выявленного несоответствия) и о необходимости направить информацию и документы, предусмотренные настоящими Правилами, по форме согласно приложению N 2 к настоящим Правилам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714C-9E52-40E7-BF87-33F4615EA052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-71640"/>
            <a:ext cx="10972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134136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Нагайчук Е.Г.</dc:creator>
  <dc:description/>
  <dc:language>en-US</dc:language>
  <cp:lastModifiedBy>Иванкова Софья Александровна</cp:lastModifiedBy>
  <cp:lastPrinted>2021-08-26T07:21:30Z</cp:lastPrinted>
  <dcterms:modified xsi:type="dcterms:W3CDTF">2022-02-28T07:48:50Z</dcterms:modified>
  <cp:revision>1307</cp:revision>
  <dc:subject/>
  <dc:title>Слайд 1</dc:title>
</cp:coreProperties>
</file>