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1600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79200" y="739440"/>
            <a:ext cx="657864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937224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16000" y="937224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9E434-4114-4CCA-BA38-59008695617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8640" cy="3700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16360" y="937260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44B8F-C5C7-4E84-A0A8-87B931E65E0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8640" cy="37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16360" y="937260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F2627-B4B3-4256-B68B-A7A74871AD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8640" cy="3700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16360" y="937260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3A43A-CC48-472B-BCF8-001865CF271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5DD9-9E85-473E-B2D5-918B079D7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18CA-9A1A-4D70-A6E6-1C75549EF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677D-0B4B-4080-AE8B-64F56E106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412E-AEAC-4F82-8500-578260D73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8FF2-20F6-475D-9055-0E4C84E24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9546-ABFD-44E3-96BF-CA91D55B7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701C-F160-489F-BDDF-F3C6C1672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1F61-D1C7-4BEE-8DC3-FFC9FB617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219B-49C0-4F45-A17E-9A972D26B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0197-ADC4-4B9D-A9B6-A55D2925D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EEBD-5502-484B-AEDA-E459B6861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C5A8-65A6-416B-8A2C-F0AC84CE0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AEC6-6F2A-405E-B0AB-C5A42212A58C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идеоконференция для представителей государственных и муниципальных заказчиков Ростовской области по вопросам осуществления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8.07.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Управление Федеральной антимонопольно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00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купка медицинских издели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1197000"/>
            <a:ext cx="109728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соответствии с частью 2 статьи 38 Закона об охране здоровья граждан медицинские изделия подразделяются на классы в зависимости от потенциального риска их применения и на виды в соответствии с номенклатурной классификацией медицинских изделий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ласс потенциального риска применения не поименован в качестве характеристики, на основе анализа которой изделия могут быть признаны взаимозаменяемыми (эквивалентными). Вне зависимости от класса риска, присвоенного медицинским изделиям, прошедшим процедуру регистрации в установленном порядке, выданные регистрационные удостоверения подтверждают факт регистрации, что, в свою очередь, свидетельствует о качестве, эффективности и безопасности указанных изделий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ласс потенциального риска медицинского изделия не является терапевтически или диагностически значимой характеристикой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а включение в описание объекта закупки требований о соответствии медицинских изделий определенному классу потенциального риска применения может привести к сокращению количества участников закупки и не соответствует Закону о контрактной системе и Закону о защите конкуренции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исьмо ФАС России от 16.05.2023 № ТН/37551/23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E038-95FB-414B-960A-A62BD5851C4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ребование о членстве в СРО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836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целях обеспечения конкуренции заказчик должен устанавливать требования к участникам закупки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 наличии членства в саморегулируемой организации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область регулирования которой соотносится с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зультатом работ, являющихся объектом закупки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миссия по осуществлению закупок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амостоятельно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уществляет проверку сведений об участнике закупки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Реестре сведений о членах саморегулируемых организаций и их обязательствах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ровень ответственности члена саморегулируемой организации, в соответствии с которым указанным членом внесены взносы в компенсационный фонд обеспечения договорных обязательств, компенсационный фонд возмещения вреда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 может быть меньше предложения участника закупки о цене контракта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 Комиссии необходимо осуществлять проверку уровней ответственности участника закупки в соответствующих компенсационных фондах саморегулируемой организации после получения от оператора информации о ценовых предложениях участников закупки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нтроль за соблюдением соответствия фактического совокупного размера обязательств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лена саморегулируемой организации по договорам подряда, заключенным таким членом с использованием конкурентных способов заключения договоров,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ельному размеру обязательств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исходя из которого таким членом саморегулируемой организации был внесен взнос в компенсационный фонд обеспечения договорных обязательств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озлагается на саморегулируемую организацию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 При рассмотрении заявок участников закупки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миссия руководствуется сведениями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 размере взноса в компенсационный фонд обеспечения договорных обязательств,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мещенными в Реестре сведений о членах саморегулируемых организаций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исьмо ФАС России от 11.07.2023 № МШ/54828/23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6B1B-7840-4A1C-87C3-EAE2FFC5CBB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оставление независимой гарант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астью 6 статьи 45 Закона № 44-ФЗ установлен исчерпывающий перечень оснований для отказа в принятии независимой гарантии заказчиком, содержащий в том числе отсутствие информации о независимых гарантиях в предусмотренных ст. 45 Закона № 44-ФЗ реестрах независимых гарантий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кольку у заказчика имеется возможность проверить подлинность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зависимой гарантии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соответствующем реестре на соответствие требованиям законодательства РФ о контрактной системе в сфере закупок, то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предоставление участником в составе заявки на участие в закупке дополнительных документов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(например, подтверждающих полномочия лица, имеющего право на осуществление действий от имени банка)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 является нарушением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исьмо ФАС России от 12.07.2023 № ПИ/55227/23,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я от 30.05.2023 по делу № 077/06/106-7032/2023, от 31.05.2023 по делу № 077/06/106-7080/2023,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 01.06.2023 по делу № 077/06/106-7151/2023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ECA6-BC6B-43AC-9298-328F577CE6E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соответствии с ч.15 ст.99 Закона № 44-ФЗ контрольный орган в сфере закупок проводит внеплановую проверку, в том числе, на основании получения информации о признаках нарушения законодательства, обнаружение контрольным органом в сфере закупок признаков нарушения законодательства Российской Федерации и иных нормативных правовых актов о контрактной системе в сфере закупок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унктом 19 Постановления Правительства РФ от 01.10.2020 № 1576 определено, что основанием для проведения внеплановой проверки является получение информации о признаках нарушения законодательства о контрактной системе, в том числе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наружение контрольным органом признаков нарушения законодательства о контрактной системе, в том числе в случае поступления информации, содержащейся в жалобе участника закупки,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алоба которого отозвана таким участником закупок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аким образом, в случае поступления жалобы в порядке Раздела 6 Закона № 44-ФЗ, в последующем ее отзыва участником закупки, Комиссией Ростовского УФАС России будет проведена внеплановая проверка действия заказчика при осуществлении оспариваемой закупки, в том числе, по доводам отозванной жалобы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7CA0-2FEE-42DE-A2CA-EC3D182F3B4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1097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480" y="134136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Иванкова Софья Александровна</cp:lastModifiedBy>
  <cp:lastPrinted>2023-03-22T06:07:50Z</cp:lastPrinted>
  <dcterms:modified xsi:type="dcterms:W3CDTF">2023-07-28T07:14:12Z</dcterms:modified>
  <cp:revision>1368</cp:revision>
  <dc:subject/>
  <dc:title>Слайд 1</dc:title>
</cp:coreProperties>
</file>