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F4AE-662E-436D-92A7-CB302D4FE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F5D1-C255-411C-8994-FB0C88977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EF4F-E026-47D5-AA8F-7DCE4B2A4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94CA-C6A5-4A77-A8FC-F82D438E7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03A7-5591-40B4-9918-663525C40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C886-08A2-4525-9D47-FC54B7D34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D5D7-4CF0-4656-A37D-C3ABD404F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846D-C010-43A8-86CD-B2349E62F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8AEA-EFED-495B-A2E8-466BBCDC1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8E17-ABA8-47CC-91E5-C7565655F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9A51-221F-451D-B6AD-035DFA766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6547-16BE-4B62-A54B-A2B2580F4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F626-D62A-4DF3-9B01-A7FF8F911E4A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8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.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купка строительных работ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197000"/>
            <a:ext cx="109728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осуществлении закупки, в извещении об осуществлении которой установлено требование к участникам закупки о членстве в соответствующей саморегулируемой организации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требование к подтверждающему документу в извещении об осуществлении закупки не устанавливается, подтверждающий документ в заявке на участие в закупке не представляется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в случае отсутствия сведений об участнике закупки в едином реестре сведений о членах саморегулируемых организаций и их обязательствах, заявка такого участника закупки отклоняется в соответствии с подпунктом "а" пункта 1 части 11 статьи 48, подпунктом "а" пункта 1 части 5 статьи 49, подпунктом "а" пункта 1 части 3 статьи 50 Закона  на основании пункта 3 части 12 статьи 48 Закона в связи с несоответствием участника закупки требованиям, установленным в извещении об осуществлении закупки в соответствии с частью 1 статьи 31 Закона о контрактной систем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1977-B79E-4524-80A9-ED6FEBEC740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рядок оценки заявок нарушает требования </a:t>
            </a:r>
            <a:br>
              <a:rPr sz="2200"/>
            </a:b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я Правительства РФ от 31.12.2021 № 2604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казчиком установлен ненадлежащий порядок оценки, ограничивающий конкуренцию и нарушающий требования Постановления Правительства РФ от 31.12.2021 № 2604, а именно установлено требование о наличии опыта исполнения контрактов (договоров) с ценой каждого не менее 20% от НМЦК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оценке заявок Заказчик применил формулу, предусмотренную подпунктом «б» пункта 20 Положения, а именно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кон и Положение в данном случае, с учетом примененной Заказчиком формулы, не допускают возможности предъявления к предоставляемым участниками документам ограничений, обусловленных предоставлением контрактов с ценой не менее 20% от НМЦК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ребование в отношении минимальной стоимости исполненных контрактов является ненадлежащим, так как лишает возможности предоставления контрактов с незначительно меньшей ценой, которая, тем не менее, будет в совокупности составлять минимальный предел установленный заказчиком для оценки заявки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D6FB-AA4B-4422-9513-28E77C1C68C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5057640" y="2490840"/>
            <a:ext cx="2076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4932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ребования к содержанию заявок на участие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электронном аукцион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1337760"/>
            <a:ext cx="10972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приложении к Извещению «Требования к содержанию, составу заявки» Заказчик установил, что заявка на участие в электронном аукционе должна содержать, в том числе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е участника закупки о цене контракта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цедура подачи ценовых предложений при проведении электронного аукциона осуществляется с использованием электронной площадки и, исходя из части 1 и 2 статьи 49 Закона, предложение участника закупки о цене контракта, предусмотренное пунктом 3 части 1 статьи 43 Закона, при проведении электронного аукциона в составе заявки не предоставляется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аким образом, устанавливая требование о предоставлении в составе заявки предложения участника закупки о цене контракта, Заказчик нарушил ч.1 ст. 49 Закона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B607-D93A-4C5D-95B9-84CE4951418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енности применения Постановления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авительства Российской Федерации от 16.11.2016 № 1236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авовая позиция, изложенная в Определении Верховного Суда РФ от 06.11.2020 N 305-ЭС20-18037 по делу N А40-177649/2019 указывает на необходимость установления запрета на допуск иностранного программного обеспечения: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в том числе в случае закупки оборудования с предустановленным ПО, с так называемым «вшитым» ПО, то есть встроенным в серверное оборудование, которое являлось предметом спорной закупки. Аналогичная правовая позиция содержится в Постановлении Девятого арбитражного апелляционного суда от 30.09.2020 N 09АП-46192/2020 по делу N А40-1776/2020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прет на допуск программного обеспечения, происходящего из иностранных государств, предусмотренный Постановлением № 1236, Заказчиком в извещении  не установлен. При этом, обоснование невозможности соблюдения запрета на допуск программного обеспечения, происходящего из иностранных государств, в ЕИС не размещено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шеуказанные действия Заказчика нарушают часть 3 статьи 14 Закона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6204-8A4D-4BFF-B875-3DFE408896F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9520" y="2376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остановление Правительства РФ от 29.12.2021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N 2571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сутствие в извещении о проведении закупки дополнительных требований, предусмотренных Постановлением Правительства РФ от 29.12.2021 N 2571 "О дополнительных требованиях к участникам закупки отдельных видов товаров, работ, услуг для обеспечения государственных и муниципальных нужд"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пример, если объектом закупки является выполнение работ по текущему ремонту автомобильной дороги для муниципальных нужд, начальная (максимальная) цена контракта превышает 5 млн. рублей руб., в извещении о проведении закупки Заказчиком должны быть установлены, предусмотренные пунктом 18 дополнительные требования по Постановлению N 2571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сли данные требования отсутствуют, Заказчик нарушил ч.4 ст.31 Закона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CDB4-89E2-4243-97CA-3FA53C8531D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134136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Alexander Akopyan</cp:lastModifiedBy>
  <cp:lastPrinted>2022-10-28T10:17:26Z</cp:lastPrinted>
  <dcterms:modified xsi:type="dcterms:W3CDTF">2022-10-31T07:44:46Z</dcterms:modified>
  <cp:revision>1347</cp:revision>
  <dc:subject/>
  <dc:title>Слайд 1</dc:title>
</cp:coreProperties>
</file>