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50A-4AF1-4465-9C8C-E00494E1E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A770-FAA5-4D9B-8959-F542132E4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5143-7065-48AB-8D64-3E25AEA9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4BF2-A822-4F34-9155-7AB508727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FDDC-C8B1-4A09-9BFF-C8C656D30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B8D9-4FCE-46CB-956F-824B66D50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5240-F7D7-472D-9ABC-2B2403552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4AEA-E687-4D66-9316-B74FD824D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7402-3519-47F2-A8A3-F570336F1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2D1B-4809-4E42-9DB1-49602A360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F3C9-A71A-4FF8-AC74-A0E784E2B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4D66-2457-411C-91CF-F68B890B5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6203-679F-489C-91F0-985654DDF848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29.04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MS PGothic"/>
              </a:rPr>
              <a:t>Управление Федеральной антимонопольной службы 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вляемые/используемые товары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052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3 статьи 66 Закона: Первая часть заявки на участие в электронном аукционе, за исключением случая, предусмотренного частью 3.1 настоящей статьи, должна содержать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) согласие участника электронного аукциона на поставку товара, выполнение работы или оказание услуги на условиях, предусмотренных документацией об электронном аукционе и не подлежащих изменению по результатам проведения электронного аукциона (такое согласие дается с применением программно-аппаратных средств электронной площадк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) при осуществлении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закупки товар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том числе поставляемого заказчику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ри выполнении закупаемых работ, оказании закупаемых услуг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страны происхождения товар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конкретные показатели товара, соответствующие значениям, установленным в документации об электронном аукционе, и указание на товарный знак (при наличии)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азчик при проведении закупки вправе требовать от участников в составе первой части заявки исключительно согласия на поставку товара, выполнение работ, оказание услуг, предусмотренных документацией, если для заказчика его предоставление является необходимым и достаточным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этом описанием объекта закупки могут быть предусмотрены необходимые характеристики товара, установленные в соответствии с нормами Закона и позицией КТРУ (при налич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67C-F5D1-4995-8501-28374C6EACC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вка лекарственных препарат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каз Министерства здравоохранения РФ от 18.01.2021 № 15н «Об утверждении типового контракта на поставку лекарственных препаратов для медицинского применения»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няется для закупки лекарственных препаратов с ОКПД 2: 21.20.1-21.20.23.194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любом размере начальной (максимальной) цены контракта, цены контракта, заключаемого с единственным поставщик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применяется в отношении закупок по государственному оборонному заказу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няется с 29.04.2021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ожения контракта приведены в соответствие с действующим законодательством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вка товар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еспечение исполнения контракт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ственность сторон и т.д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работан образец заявки на получение (выборку) товар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B18-D49B-4755-8CB0-990D28929F2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имущества организациям инвалид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асть 3 статьи 29 Закона: При определении поставщиков (подрядчиков, исполнителей), за исключением случая, если закупки осуществляются у единственного поставщика (подрядчика, исполнителя), заказчик обязан предоставлять преимущества организациям инвалидов в отношении предлагаемых ими цены контракта, суммы цен единиц товара, работы, услуги в размере до пятнадцати процентов в установленном Правительством Российской Федерации порядке и в соответствии с утвержденными Правительством Российской Федерации перечнями товаров, работ, услуг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м Правительства РФ от 15.04.2014 N 341 утвержден перечень товаров, работ, услуг, при закупке которых предоставляются преимущества организациям инвалидов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ом 5(1) Постановления установлено, что предметом одного контракта (одного лота) не могут быть товары, работы, услуги, включенные в перечень товаров, работ, услуг, при закупке которых предоставляются преимущества организациям инвалидов, и не включенные в него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21.04.2021 № 061/06/64-743/2021, от 23.04.2021 № 061/06/64-730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6F9-4048-438F-A08D-941BB82FCC9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ответствие участника закупки требованиям документации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метом закупки являлись «Услуги по защите конфиденциальной информации». В объект включены услуги: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а и доработки документации для создания системы защиты информации на объекте информатизации, включая моделирование угроз и нарушителей, требований к системе защиты информации;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вка (передача) сертифицированных ФСТЭК России и ФСБ России программных и аппаратных средств защиты информации, а также средств общего назначения, необходимых для достижения целей услуг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работка комплекта шаблонов организационно-распорядительной документации по защите информации;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нтаж, установка (инсталляция), наладка, испытания, программных (программно-технических) средств защиты информации, средств контроля защищенности информации;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ттестация АИС заказчика в защищённом исполнении на соответствие требованиям безопасност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форма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ля осуществления указанных услуг необходимо наличие лицензий ФСТЭК России и ФСБ России, что было предусмотрено документацией (требования к участникам закупк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15ААС от 15.04.2021 по делу № А53-15371/202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024-7DB7-405C-9364-6A93762EFB0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купка радиоэлектронной продукции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метом закупки являлось «Автоматизированное рабочее место (тонкий клиент в сборе) в составе: тонкий клиент, монитор, подключаемый к компьютеру, клавиатура, мышь компьютерная, сетевой фильтр». Указанный товар включен в перечень радиоэлектронной продукции, происходящей из иностранных государств, в отношении которой устанавливаются ограничения согласно Постановление Правительства РФ от 10.07.2019 N 878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ответствии с п.3 Постановления при осуществлении закупок радиоэлектронной продукции, включенной в перечень, заказчик отклоняет все заявки (окончательные предложения), содержащие предложения о поставке радиоэлектронной продукции, включенной в перечень, происходящей из иностранных государств, при условии, что на участие в определении поставщика подано не менее 2 удовлетворяющих требованиям извещения об осуществлении закупки и (или) документации о закупке заявок (окончательных предложений), которые одновременно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т предложения о поставке радиоэлектронной продукции, включенной в реестр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содержат предложений о поставке одного и того же вида радиоэлектронной продукции одного производителя либо производителей, входящих в одну группу лиц, соответствующего признакам, предусмотренным статьей 9 Федерального закона "О защите конкуренции", при сопоставлении этих заявок (окончательных предложений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тверждением соответствия радиоэлектронной продукции требованиям извещения об осуществлении закупки и (или) документации о закупке является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декларация участника закупки о нахождении радиоэлектронной продукции в реестре с указанием номера реестровой запис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АС РО от 15.04.2021 по делу № А53-39519/2020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3EF-F840-4FA4-B905-D54A7BD3B2A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1-27T10:43:38Z</cp:lastPrinted>
  <dcterms:modified xsi:type="dcterms:W3CDTF">2021-04-29T11:43:11Z</dcterms:modified>
  <cp:revision>1279</cp:revision>
  <dc:subject/>
  <dc:title>Слайд 1</dc:title>
</cp:coreProperties>
</file>