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9485D-BEBD-4F86-8CDC-2E54F1F4B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7CA1-826F-438C-A245-D0C8C1C0E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4FD81-6187-4E12-9674-1EA42E8A4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B2CE-6535-4D7E-B980-F8F721D50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F2E6-570F-418D-9959-6F18FCE59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9E4B-BBB9-40E4-BBAA-04D04DE30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E984-25E7-47E2-B697-A5B6D34E1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51846-EDDF-4359-8184-55D66DF43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D2877-99CB-4F89-B762-611411B9C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6A6CC-E3F3-44C0-94F2-5A6BC6686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EB22-AC82-44A4-8778-FB250BC15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A9AD-45A7-424F-8BC1-9F766B9A2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1219212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9396360" y="6579720"/>
            <a:ext cx="2844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1D05-97AD-47C5-B3F8-161FA62F4B25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1219212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ubtitle 2"/>
          <p:cNvSpPr/>
          <p:nvPr/>
        </p:nvSpPr>
        <p:spPr>
          <a:xfrm>
            <a:off x="1697040" y="2565360"/>
            <a:ext cx="87915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Управления Федеральной антимонопольной службы по Ростовской области в сфере закуп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Ростов-на-Д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04.20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3863880" y="836640"/>
            <a:ext cx="66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Управление Федеральной антимонопольной служ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о Рос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84240"/>
            <a:ext cx="121442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менения срока оплаты по контрактам с 01.05.2022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Номер слайда 2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4009-4EE2-4203-ADA3-F3579FE140B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263520" y="1125360"/>
            <a:ext cx="1144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оплаты заказчиком поставленного товара, выполненной работы (ее результатов), оказанной услуги, отдельных этапов исполнения контракта, предусмотренный контрактом, заключенным по результатам определения поставщика (подрядчика, исполнителя), если извещение об осуществлении закупки размещено в единой информационной системе либо приглашения принять участие в закупке направлены с 1 января по 30 апреля 2022 года включительно, должен составлять не более пятнадцати рабочих дней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 1 мая 2022 года не более семи рабочих дне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аты подписания заказчиком документа о приемке, предусмотренного частью 7 статьи 94 настоящего Федерального зак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84240"/>
            <a:ext cx="121442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Оценка регистрационных удостоверений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4E10-AC06-4BAA-8291-18ED270815E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263520" y="1125360"/>
            <a:ext cx="1144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ение участником закупки при описании товара в заявке наименования конкретного медицинского изделия в определенном варианте исполнения, поименованного в регистрационном удостоверении (приложении) медицинского изделия, свидетельствует о выполнении требования извещения в части указания «наименования товара в соответствии с регистрационным удостоверение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а Росздравнадзора от 03.07.2019 №10-31992/19, от 02.08.2019 №10-37939/19, Письмо ФАС России от 21.10.2019 №АК/91661/19, Постановление Арбитражного суда Западно-Сибирского округа от 27.05.2020 по делу №А67-8891/201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пределение Верховного Суда РФ от 14.09.202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84240"/>
            <a:ext cx="121442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Оценка регистрационных удостоверений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Номер слайда 2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D978-22CE-47E8-A4A7-8E7A3800757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349200" y="5710320"/>
            <a:ext cx="1144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– идентифицировать медицинское изделие, удостовериться в том, что оно зарегистриров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263520" y="1268280"/>
            <a:ext cx="5256360" cy="2305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Инструменты электрохирургические моно и биполярные в наборах и отдельных упаковках к аппаратам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 FX, Force EZ, Force Argon II, ForceTriad, LigaSure, Surgistat II, Cool-tip RF/Switching Controller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надлежностям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Принадлежности к инструментам электрохирургическим моно и биполярным к аппарату Force FX. Держатели электрод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6504120" y="1268280"/>
            <a:ext cx="5294160" cy="2305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Концентрат сухой бикарбона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ный БК-1СГ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Набор для приготовления концентрированного кислотного компон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изирующего раствора БК-1СГ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6504120" y="3860640"/>
            <a:ext cx="52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Арбитражного суда Северо-Кавказского округа от 09.10.2018 по делу №А53-3103/201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ятнадцатого арбитражного апелляционного суда от 04.03.2022 по делу №А53-29269/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263520" y="386064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ятнадцатого арбитражного апелляционного суда от 18.03.2022 по делу №А53-26840/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84240"/>
            <a:ext cx="121442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именение Каталога товаров, работ, услуг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DC32-FD69-4282-B810-68F25842C69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347760" y="1052640"/>
            <a:ext cx="11449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смотрении доводов антимонопольный орган оценив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закупаемого това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ОКПД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медицинского изделия (для соответствующих закупок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ый реж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с ценовых предлож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ки участников, в особенности – регистрационные удостоверения на това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какого мероприятия приобретается тов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Арбитражного суда Северо-Кавказского округа от 18.11.2021 по делу №А32-43480/2020, Постановление Арбитражного суда Волго-Вятского округа от 10.08.2021 по делу №А11-5408/2020, Постановление Пятнадцатого арбитражного апелляционного суда от 02.12.2021 по делу №А53-2704/2021, Постановление Третьего арбитражного апелляционного суда от 15.06.2021 по делу №А33-28932/2020, Постановление Седьмого арбитражного апелляционного суда от 15.10.2020 по делу №А67-10189/2019, Решение Арбитражного суда Ростовской области от 23.03.2022 по делу №А53-41400/2021, Решение Арбитражного суда Ростовской области от 25.01.2022 по делу №А53-37241/20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84240"/>
            <a:ext cx="121442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менение Постановления №2640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Номер слайда 2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C178-E207-4177-9439-24DEDEB5E7F0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334800" y="1125360"/>
            <a:ext cx="1137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детализированных показателей критерия оценки «наличие у участников закупки опыта…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ламентировано пунктом 28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я №260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ми указанного пункта определено, какие требования заказчик может установить, при этом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не является открыт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ом 29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я №2604 установлен императивный порядок подтверждения деловой репутации, не соответствующий тому, что определил Заказ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84240"/>
            <a:ext cx="121442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ловки недобросовестных заявителей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Номер слайда 2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6073-734D-4EA1-BA5D-54CE610DC64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19040" y="1197000"/>
          <a:ext cx="11653920" cy="4581360"/>
        </p:xfrm>
        <a:graphic>
          <a:graphicData uri="http://schemas.openxmlformats.org/drawingml/2006/table">
            <a:tbl>
              <a:tblPr/>
              <a:tblGrid>
                <a:gridCol w="3587760"/>
                <a:gridCol w="8066160"/>
              </a:tblGrid>
              <a:tr h="369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 законодатель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 3 части 1 статьи 43 44-Ф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в извещении о проведении аукциона требования указать в заявке предложение о цене контра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 1 части 1 статьи 43 44-Ф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в извещении о проведении аукциона требования представить все сведения, предусмотренные указанной норм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 2, 2.1 статьи 31 44-Ф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в извещении и дополнительных требований, и «универсальной предквалификац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1 статьи 42 44-Ф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в извещении (которое формируется функционалом ЕИС) всех необходимых требований, предусмотренных указанной норм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8 статьи 32 44-Ф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требований к оценке заявок не в соответствии с приложением к Постановление Правительства РФ №26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1 статьи 31 44-Ф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длежащее установление требований к компенсационным фондам СРО, членами которых являются участники закуп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2 статьи 42 44-Ф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ная, запутывающая инстру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97956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608040" y="1941480"/>
            <a:ext cx="998388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Нагайчук Е.Г.</dc:creator>
  <dc:description/>
  <dc:language>en-US</dc:language>
  <cp:lastModifiedBy>Дедух Юрий Романович</cp:lastModifiedBy>
  <cp:lastPrinted>2020-04-24T07:32:43Z</cp:lastPrinted>
  <dcterms:modified xsi:type="dcterms:W3CDTF">2022-04-29T10:15:58Z</dcterms:modified>
  <cp:revision>1297</cp:revision>
  <dc:subject/>
  <dc:title>Слайд 1</dc:title>
</cp:coreProperties>
</file>