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A1DBA-F4C1-4C62-9F86-46A2C2002D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13C7ED8D-9893-4DD7-8BE5-453076485F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C4D35FF4-4E22-4F43-8D27-BE4D4FB28E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A5E23CC0-2076-4E42-8D53-676847C16B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51A31577-1F34-4B1B-81D9-5AD271653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5AD12EF2-394E-4AE5-8CBF-3A4FB8496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B3AF0D65-178C-4292-BB61-F69794C12C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F2A6669E-001D-489F-8DB3-3C3F6D80D3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BC9FBD8F-4BAA-454E-A859-66118BFF79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086FA597-C300-4D70-B1EE-084BCE7791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5625984A-2F46-4251-8717-75C811E22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4D89F97E-B2E8-4C3A-BFFA-2FA3EC5EC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12192120" cy="260280"/>
          </a:xfrm>
          <a:prstGeom prst="rect">
            <a:avLst/>
          </a:prstGeom>
          <a:ln w="0">
            <a:noFill/>
          </a:ln>
        </p:spPr>
      </p:pic>
      <p:pic>
        <p:nvPicPr>
          <p:cNvPr id="3" name="Picture 9" descr="пр 1"/>
          <p:cNvPicPr/>
          <p:nvPr/>
        </p:nvPicPr>
        <p:blipFill>
          <a:blip r:embed="rId3"/>
          <a:stretch/>
        </p:blipFill>
        <p:spPr>
          <a:xfrm>
            <a:off x="0" y="0"/>
            <a:ext cx="12192120" cy="907920"/>
          </a:xfrm>
          <a:prstGeom prst="rect">
            <a:avLst/>
          </a:prstGeom>
          <a:ln w="0">
            <a:noFill/>
          </a:ln>
        </p:spPr>
      </p:pic>
      <p:sp>
        <p:nvSpPr>
          <p:cNvPr id="4" name="PlaceHolder 3"/>
          <p:cNvSpPr>
            <a:spLocks noGrp="1"/>
          </p:cNvSpPr>
          <p:nvPr>
            <p:ph type="sldNum" idx="1"/>
          </p:nvPr>
        </p:nvSpPr>
        <p:spPr>
          <a:xfrm>
            <a:off x="9396360" y="6579720"/>
            <a:ext cx="2844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7F8E-2A4B-4A94-8BFC-BE629D0B9CA5}" type="slidenum">
              <a:rPr b="0" lang="ru-RU" sz="1600" spc="-1" strike="noStrike">
                <a:solidFill>
                  <a:srgbClr val="ffffff"/>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12192120" cy="2638440"/>
          </a:xfrm>
          <a:prstGeom prst="rect">
            <a:avLst/>
          </a:prstGeom>
          <a:ln w="0">
            <a:noFill/>
          </a:ln>
        </p:spPr>
      </p:pic>
      <p:pic>
        <p:nvPicPr>
          <p:cNvPr id="42" name="Picture 8" descr="пр2"/>
          <p:cNvPicPr/>
          <p:nvPr/>
        </p:nvPicPr>
        <p:blipFill>
          <a:blip r:embed="rId3"/>
          <a:stretch/>
        </p:blipFill>
        <p:spPr>
          <a:xfrm>
            <a:off x="0" y="6624720"/>
            <a:ext cx="12192120" cy="260280"/>
          </a:xfrm>
          <a:prstGeom prst="rect">
            <a:avLst/>
          </a:prstGeom>
          <a:ln w="0">
            <a:noFill/>
          </a:ln>
        </p:spPr>
      </p:pic>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ubtitle 2"/>
          <p:cNvSpPr/>
          <p:nvPr/>
        </p:nvSpPr>
        <p:spPr>
          <a:xfrm>
            <a:off x="1697040" y="2565360"/>
            <a:ext cx="8791560" cy="302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рактика Управления Федеральной антимонопольной службы по Ростовской области в сфере закупок</a:t>
            </a: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г. Ростов-на-Дону</a:t>
            </a: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9.0</a:t>
            </a:r>
            <a:r>
              <a:rPr b="1" lang="en-US" sz="1400" spc="-1" strike="noStrike">
                <a:solidFill>
                  <a:srgbClr val="000000"/>
                </a:solidFill>
                <a:latin typeface="Times New Roman"/>
                <a:ea typeface="Times New Roman"/>
              </a:rPr>
              <a:t>7</a:t>
            </a:r>
            <a:r>
              <a:rPr b="1" lang="ru-RU" sz="1400" spc="-1" strike="noStrike">
                <a:solidFill>
                  <a:srgbClr val="000000"/>
                </a:solidFill>
                <a:latin typeface="Times New Roman"/>
                <a:ea typeface="Times New Roman"/>
              </a:rPr>
              <a:t>.2022</a:t>
            </a:r>
            <a:endParaRPr b="0" lang="en-US" sz="1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26"/>
          <p:cNvSpPr/>
          <p:nvPr/>
        </p:nvSpPr>
        <p:spPr>
          <a:xfrm>
            <a:off x="3863880" y="836640"/>
            <a:ext cx="6624720" cy="1008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Times New Roman"/>
                <a:ea typeface="Times New Roman"/>
              </a:rPr>
              <a:t>Управление Федеральной антимонопольной служб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Times New Roman"/>
                <a:ea typeface="Times New Roman"/>
              </a:rPr>
              <a:t>по Ростов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44280"/>
            <a:ext cx="121921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Письмо Минфина России от 20.07.2022 № 24-01-06/69926</a:t>
            </a:r>
            <a:endParaRPr b="0" lang="en-US" sz="3200" spc="-1" strike="noStrike">
              <a:solidFill>
                <a:srgbClr val="333399"/>
              </a:solidFill>
              <a:latin typeface="Arial"/>
            </a:endParaRPr>
          </a:p>
        </p:txBody>
      </p:sp>
      <p:sp>
        <p:nvSpPr>
          <p:cNvPr id="84" name="Номер слайда 2"/>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1BF9-6917-4A7D-8136-F5E58CB5869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5" name="TextBox 3"/>
          <p:cNvSpPr/>
          <p:nvPr/>
        </p:nvSpPr>
        <p:spPr>
          <a:xfrm>
            <a:off x="192240" y="907920"/>
            <a:ext cx="1180764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инфин России отмечает, что реализация запрета совершать и исполнять сделки при закупках по Закону №44-ФЗ обеспечивается путем:</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клонения заявок, поданных лицами, находящимися под контрсанкциями;</a:t>
            </a:r>
            <a:endParaRPr b="0" lang="en-US" sz="2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странения лиц, находящихся под контрсанкциями, от заключения контрактов или отказа от заключения с ними контрактов (ч.9 ст.31 Закона №44-ФЗ);</a:t>
            </a:r>
            <a:endParaRPr b="0" lang="en-US" sz="2400" spc="-1" strike="noStrike">
              <a:solidFill>
                <a:srgbClr val="000000"/>
              </a:solidFill>
              <a:latin typeface="Arial"/>
            </a:endParaRPr>
          </a:p>
          <a:p>
            <a:pPr indent="44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сторжения контрактов, заключенных с лицами, находящимися под контрсанкциями (п.1 ч.15 ст.95 Закона №44-ФЗ).</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этом </a:t>
            </a:r>
            <a:r>
              <a:rPr b="0" lang="ru-RU" sz="2400" spc="-1" strike="noStrike" u="sng">
                <a:solidFill>
                  <a:srgbClr val="000000"/>
                </a:solidFill>
                <a:uFillTx/>
                <a:latin typeface="Times New Roman"/>
                <a:ea typeface="Times New Roman"/>
              </a:rPr>
              <a:t>Закон №44-ФЗ не предусматривает обязательность указания </a:t>
            </a:r>
            <a:r>
              <a:rPr b="0" lang="ru-RU" sz="2400" spc="-1" strike="noStrike">
                <a:solidFill>
                  <a:srgbClr val="000000"/>
                </a:solidFill>
                <a:latin typeface="Times New Roman"/>
                <a:ea typeface="Times New Roman"/>
              </a:rPr>
              <a:t>в составе извещения об осуществлении закупки, приглашения принять участие в определении поставщика (подрядчика, исполнителя) </a:t>
            </a:r>
            <a:r>
              <a:rPr b="0" lang="ru-RU" sz="2400" spc="-1" strike="noStrike" u="sng">
                <a:solidFill>
                  <a:srgbClr val="000000"/>
                </a:solidFill>
                <a:uFillTx/>
                <a:latin typeface="Times New Roman"/>
                <a:ea typeface="Times New Roman"/>
              </a:rPr>
              <a:t>конкретного нормативного правового акта, которым установлено ограничение для участия в закупках </a:t>
            </a:r>
            <a:r>
              <a:rPr b="0" lang="ru-RU" sz="2400" spc="-1" strike="noStrike">
                <a:solidFill>
                  <a:srgbClr val="000000"/>
                </a:solidFill>
                <a:latin typeface="Times New Roman"/>
                <a:ea typeface="Times New Roman"/>
              </a:rPr>
              <a:t>и (или) перечень лиц, в отношении которых введены такие огранич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44280"/>
            <a:ext cx="121921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Применение актуальной редакции Закона о контрактной системе</a:t>
            </a:r>
            <a:endParaRPr b="0" lang="en-US" sz="3200" spc="-1" strike="noStrike">
              <a:solidFill>
                <a:srgbClr val="333399"/>
              </a:solidFill>
              <a:latin typeface="Arial"/>
            </a:endParaRPr>
          </a:p>
        </p:txBody>
      </p:sp>
      <p:sp>
        <p:nvSpPr>
          <p:cNvPr id="87" name="Номер слайда 2"/>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970A-A180-4EBA-9A56-F8D159B0975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8" name="TextBox 3"/>
          <p:cNvSpPr/>
          <p:nvPr/>
        </p:nvSpPr>
        <p:spPr>
          <a:xfrm>
            <a:off x="192240" y="907920"/>
            <a:ext cx="118076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 пп.«в» п.1 ч.1 ст.43 Закона о контрактной системе установлено, что заявка должна содержать ИНН (при наличии) членов коллегиального исполнительного органа, лица, исполняющего функции единоличного исполнительного органа, управляющего (при наличии), управляющей организации (при наличии), участников (членов) корпоративного юридического лица, владеющих более чем двадцатью пятью процентами акций (долей, паев) корпоративного юридического лица, учредителей унитарного юридического лица или в соответствии с законодательством соответствующего иностранного государства аналог идентификационного номера налогоплательщика таких лиц.</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месте с тем некоторые заказчики устанавливают требования к участнику закупки об отсутствии в предусмотренном Законом о контрактной системе реестре недобросовестных поставщиков (подрядчиков, исполнителей) информации об участнике закупки, в том числе информации о лицах, указанных в п.2,3 ч.3 ст.104 Закона о контрактной систем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нный пример не является единственным и свидетельствует о систематических нарушениях со стороны заказчиков при применении законодательства Российской Федерации о контрактной системе в сфере закупок в недействующей редакц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Решение ФАС России от 26.05.2022 по делу N 28/06/105-1649/20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115560"/>
            <a:ext cx="1224108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1. Установление требований по Постановлению Правительства РФ №570</a:t>
            </a:r>
            <a:endParaRPr b="0" lang="en-US" sz="3200" spc="-1" strike="noStrike">
              <a:solidFill>
                <a:srgbClr val="333399"/>
              </a:solidFill>
              <a:latin typeface="Arial"/>
            </a:endParaRPr>
          </a:p>
        </p:txBody>
      </p:sp>
      <p:sp>
        <p:nvSpPr>
          <p:cNvPr id="90" name="Номер слайда 2"/>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7761-7624-4177-A96A-DEF5738FEE3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1" name="TextBox 3"/>
          <p:cNvSpPr/>
          <p:nvPr/>
        </p:nvSpPr>
        <p:spPr>
          <a:xfrm>
            <a:off x="192240" y="1179360"/>
            <a:ext cx="1180764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570 установлен перечень, состоящий из 34 видов работ по строительству, реконструкции объектов капитального строительства на территории Российской Федерации, которые подрядчик обязан выполнить самостоятельно без привлечения других лиц к исполнению своих обязательств по государственному или муниципальному контракт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гласно пп.«б» п.2 Постановления №570 конкретные виды и объемы работ из числа видов и объемов работ, предусмотренных пп.«а» п.2 Постановления №570, определенные по предложению подрядчика, включаются в государственный и (или) муниципальный контракт и исходя из сметной стоимости этих работ, предусмотренной проектной документацие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ответственно, Заказчик, исходя </a:t>
            </a:r>
            <a:r>
              <a:rPr b="0" lang="ru-RU" sz="2000" spc="-1" strike="noStrike" u="sng">
                <a:solidFill>
                  <a:srgbClr val="000000"/>
                </a:solidFill>
                <a:uFillTx/>
                <a:latin typeface="Times New Roman"/>
                <a:ea typeface="Times New Roman"/>
              </a:rPr>
              <a:t>из проектной документации</a:t>
            </a:r>
            <a:r>
              <a:rPr b="0" lang="ru-RU" sz="2000" spc="-1" strike="noStrike">
                <a:solidFill>
                  <a:srgbClr val="000000"/>
                </a:solidFill>
                <a:latin typeface="Times New Roman"/>
                <a:ea typeface="Times New Roman"/>
              </a:rPr>
              <a:t>, формирует в Извещении перечень возможных видов работ, из которых в последующем исполнитель самостоятельно определяет те работы, которые будет выполнять самостоятельно в объеме не менее 25%.</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Решение ФАС России от 24.05.2022 по делу №22/44/93/9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омер слайда 1"/>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066E-D0CE-4A22-9B69-F38FEE29E5F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3" name="TextBox 2"/>
          <p:cNvSpPr/>
          <p:nvPr/>
        </p:nvSpPr>
        <p:spPr>
          <a:xfrm>
            <a:off x="119160" y="1052640"/>
            <a:ext cx="1188072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же примером ненадлежащего применения Постановления №570 является установление в извещении о проведении закупки положения </a:t>
            </a:r>
            <a:r>
              <a:rPr b="0" lang="ru-RU" sz="2000" spc="-1" strike="noStrike" u="sng">
                <a:solidFill>
                  <a:srgbClr val="000000"/>
                </a:solidFill>
                <a:uFillTx/>
                <a:latin typeface="Times New Roman"/>
                <a:ea typeface="Times New Roman"/>
              </a:rPr>
              <a:t>об обязанности согласования с Заказчиком </a:t>
            </a:r>
            <a:r>
              <a:rPr b="0" lang="ru-RU" sz="2000" spc="-1" strike="noStrike">
                <a:solidFill>
                  <a:srgbClr val="000000"/>
                </a:solidFill>
                <a:latin typeface="Times New Roman"/>
                <a:ea typeface="Times New Roman"/>
              </a:rPr>
              <a:t>видов и объемов работ, предусмотренных проектом государственного контракта извещения о проведении Аукциона, которые подрядчик обязан выполнить самостоятельн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месте с тем механизм применения Постановления №570 предусматривает </a:t>
            </a:r>
            <a:r>
              <a:rPr b="0" lang="ru-RU" sz="2000" spc="-1" strike="noStrike" u="sng">
                <a:solidFill>
                  <a:srgbClr val="000000"/>
                </a:solidFill>
                <a:uFillTx/>
                <a:latin typeface="Times New Roman"/>
                <a:ea typeface="Times New Roman"/>
              </a:rPr>
              <a:t>включение в документацию о закупке возможных объемов и видов работ заказчиком </a:t>
            </a:r>
            <a:r>
              <a:rPr b="0" lang="ru-RU" sz="2000" spc="-1" strike="noStrike">
                <a:solidFill>
                  <a:srgbClr val="000000"/>
                </a:solidFill>
                <a:latin typeface="Times New Roman"/>
                <a:ea typeface="Times New Roman"/>
              </a:rPr>
              <a:t>и их дальнейшее определение уже конкретных видов и объемов работ по </a:t>
            </a:r>
            <a:r>
              <a:rPr b="0" lang="ru-RU" sz="2000" spc="-1" strike="noStrike" u="sng">
                <a:solidFill>
                  <a:srgbClr val="000000"/>
                </a:solidFill>
                <a:uFillTx/>
                <a:latin typeface="Times New Roman"/>
                <a:ea typeface="Times New Roman"/>
              </a:rPr>
              <a:t>предложению подрядчика на собственное усмотрение</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ea typeface="Times New Roman"/>
              </a:rPr>
              <a:t>Возможность</a:t>
            </a:r>
            <a:r>
              <a:rPr b="0" lang="ru-RU" sz="2000" spc="-1" strike="noStrike">
                <a:solidFill>
                  <a:srgbClr val="000000"/>
                </a:solidFill>
                <a:latin typeface="Times New Roman"/>
                <a:ea typeface="Times New Roman"/>
              </a:rPr>
              <a:t> установления Заказчиком условий контракта о согласовании с последним видов и объемов работ, предусмотренных проектом государственного контракта </a:t>
            </a:r>
            <a:r>
              <a:rPr b="0" lang="ru-RU" sz="2000" spc="-1" strike="noStrike" u="sng">
                <a:solidFill>
                  <a:srgbClr val="000000"/>
                </a:solidFill>
                <a:uFillTx/>
                <a:latin typeface="Times New Roman"/>
                <a:ea typeface="Times New Roman"/>
              </a:rPr>
              <a:t>не предусмотрена Законом </a:t>
            </a:r>
            <a:r>
              <a:rPr b="0" lang="ru-RU" sz="2000" spc="-1" strike="noStrike">
                <a:solidFill>
                  <a:srgbClr val="000000"/>
                </a:solidFill>
                <a:latin typeface="Times New Roman"/>
                <a:ea typeface="Times New Roman"/>
              </a:rPr>
              <a:t>о контрактной системе, ведет к возможности злоупотребления Заказчиком своим правом, поскольку в контракте не прописаны условия и порядок согласования Заказчиком видов и объемов работ, предусмотренных Контрактом, которые он обязан выполнить самостоятельно, без привлечения других лиц к исполнению своих обязательств по контракт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Решение ФАС России от 01.04.2022 по делу №28/06/105-912/2022</a:t>
            </a:r>
            <a:endParaRPr b="0" lang="en-US" sz="2000" spc="-1" strike="noStrike">
              <a:solidFill>
                <a:srgbClr val="000000"/>
              </a:solidFill>
              <a:latin typeface="Arial"/>
            </a:endParaRPr>
          </a:p>
        </p:txBody>
      </p:sp>
      <p:sp>
        <p:nvSpPr>
          <p:cNvPr id="94" name="Заголовок 1"/>
          <p:cNvSpPr/>
          <p:nvPr/>
        </p:nvSpPr>
        <p:spPr>
          <a:xfrm>
            <a:off x="0" y="1440"/>
            <a:ext cx="12241080" cy="6336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2. Установление требований по Постановлению Правительства РФ №57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омер слайда 1"/>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6C66-1226-40F4-80AE-E30737D9A8C3}"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6" name="TextBox 2"/>
          <p:cNvSpPr/>
          <p:nvPr/>
        </p:nvSpPr>
        <p:spPr>
          <a:xfrm>
            <a:off x="119160" y="1052640"/>
            <a:ext cx="11880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гласно Извещению объектом закупки является строительство путепровода через ж.д. пути по ул. Песчано-Уметской в Ленинском районе города Саратова. Извещением установлены, в том числе дополнительные требования, предъявляемые к участникам Аукциона в соответствии с позицией 7 приложения к Постановлению №257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оответствии с п.3 ст.3 Закона об автомобильных дорогах искусственные дорожные сооружения – сооружения, предназначенные для движения транспортных средств, пешеходов и прогона животных в местах пересечения автомобильных дорог иными автомобильными дорогами, водотоками, оврагами, в местах, которые являются препятствиями для такого движения, прогона (зимники, мосты, переправы по льду, путепроводы, трубопроводы, тоннели, эстакады, подобные сооруж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им образом, в соответствии с вышеизложенными нормами, путепровод - это являющееся технологической частью автомобильной дороги дорожное сооружение, которое является частью объекта транспортной инфраструктуры, предназначенного для движения транспортных средст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читывая изложенное, Комиссия ФАС России пришла к выводу, что поскольку объектом закупки является строительство путепровода, который является частью автомобильной дороги, закупаемые работы относятся к работам по строительству автомобильной дороги, в связи с чем к участникам закупки необходимо установить дополнительные требования, предусмотренные п.17 приложения к Постановлению №257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Решение ФАС России от 27.05.2022 по делу №28/06/105-1672/2022</a:t>
            </a:r>
            <a:endParaRPr b="0" lang="en-US" sz="1800" spc="-1" strike="noStrike">
              <a:solidFill>
                <a:srgbClr val="000000"/>
              </a:solidFill>
              <a:latin typeface="Arial"/>
            </a:endParaRPr>
          </a:p>
        </p:txBody>
      </p:sp>
      <p:sp>
        <p:nvSpPr>
          <p:cNvPr id="97" name="Заголовок 1"/>
          <p:cNvSpPr/>
          <p:nvPr/>
        </p:nvSpPr>
        <p:spPr>
          <a:xfrm>
            <a:off x="0" y="1440"/>
            <a:ext cx="12241080" cy="63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4. Применение Постановления Правительства РФ №25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1"/>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4878-4534-47AC-A17B-943CA3B1197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9" name="TextBox 2"/>
          <p:cNvSpPr/>
          <p:nvPr/>
        </p:nvSpPr>
        <p:spPr>
          <a:xfrm>
            <a:off x="119160" y="1052640"/>
            <a:ext cx="11880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йствия заказчика, установившего положения инструкции по заполнению заявки на участие в закупке, не позволяющей однозначным образом определить порядок заполнения сведений в отношении параметра, влекут к неправомерному отказу в допуске к закупке участника закупк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Решение ФАС России от 17.08.2021 по делу №17/06/105-930/202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остановление Девятого Арбитражного апелляционного суда от 29.04.2022 по делу №А40-246415/2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актика Ростовского УФАС России:</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Решение Арбитражного суда Ростовской области от 29.07.2019 по делу №А53-26885/2019, Решение Арбитражного суда Ростовской области от 25.10.2019 по делу №А53-27847/2019, Решение Арбитражного суда Ростовской области от 23.01.2020 по делу №А53-1541/2020, Решение Арбитражного суда Ростовской области от 11.08.2020 по делу № А53-13387/2020, Постановление Пятнадцатого арбитражного апелляционного суда от 22.05.2020 по делу №А53-40566/2019, Постановление Пятнадцатого арбитражного апелляционного суда от 09.06.2020 по делу №А53-39493/2019, Постановлении Пятнадцатого арбитражного апелляционного суда от 05.03.2019 по делу №А53-24106/2018</a:t>
            </a:r>
            <a:endParaRPr b="0" lang="en-US" sz="1800" spc="-1" strike="noStrike">
              <a:solidFill>
                <a:srgbClr val="000000"/>
              </a:solidFill>
              <a:latin typeface="Arial"/>
            </a:endParaRPr>
          </a:p>
        </p:txBody>
      </p:sp>
      <p:sp>
        <p:nvSpPr>
          <p:cNvPr id="100" name="Заголовок 1"/>
          <p:cNvSpPr/>
          <p:nvPr/>
        </p:nvSpPr>
        <p:spPr>
          <a:xfrm>
            <a:off x="0" y="1440"/>
            <a:ext cx="12241080" cy="63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5. Подготовка надлежащей инструкц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7956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Times New Roman"/>
                <a:ea typeface="Times New Roman"/>
              </a:rPr>
              <a:t>Благодарю за внимание!</a:t>
            </a:r>
            <a:endParaRPr b="0" lang="en-US" sz="5400" spc="-1" strike="noStrike">
              <a:solidFill>
                <a:srgbClr val="333399"/>
              </a:solidFill>
              <a:latin typeface="Arial"/>
            </a:endParaRPr>
          </a:p>
        </p:txBody>
      </p:sp>
      <p:sp>
        <p:nvSpPr>
          <p:cNvPr id="102" name=""/>
          <p:cNvSpPr txBox="1"/>
          <p:nvPr/>
        </p:nvSpPr>
        <p:spPr>
          <a:xfrm>
            <a:off x="609480" y="1600200"/>
            <a:ext cx="10972800" cy="4525920"/>
          </a:xfrm>
          <a:prstGeom prst="rect">
            <a:avLst/>
          </a:prstGeom>
          <a:noFill/>
          <a:ln w="0">
            <a:noFill/>
          </a:ln>
        </p:spPr>
        <p:txBody>
          <a:bodyPr anchor="t">
            <a:normAutofit/>
          </a:bodyPr>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pic>
        <p:nvPicPr>
          <p:cNvPr id="103" name="Picture 4" descr=""/>
          <p:cNvPicPr/>
          <p:nvPr/>
        </p:nvPicPr>
        <p:blipFill>
          <a:blip r:embed="rId1"/>
          <a:stretch/>
        </p:blipFill>
        <p:spPr>
          <a:xfrm>
            <a:off x="608040" y="1941480"/>
            <a:ext cx="9983880" cy="418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Нагайчук Е.Г.</dc:creator>
  <dc:description/>
  <dc:language>en-US</dc:language>
  <cp:lastModifiedBy>Дедух Юрий Романович</cp:lastModifiedBy>
  <cp:lastPrinted>2020-04-24T07:32:43Z</cp:lastPrinted>
  <dcterms:modified xsi:type="dcterms:W3CDTF">2022-07-29T11:20:04Z</dcterms:modified>
  <cp:revision>1278</cp:revision>
  <dc:subject/>
  <dc:title>Слайд 1</dc:title>
</cp:coreProperties>
</file>